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F99-54C0-428A-83C2-96D40369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956-E556-4A41-AA87-ED4B8639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053-FC53-44C4-B800-CA474369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CB9-F083-450E-8946-0942DC8D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801-5060-40BE-AEF0-E975247A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7D4-8CE6-443B-B8A3-AB59486B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B55-C7F4-4562-8F01-3E723BE8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AAA-9367-42F7-A4F4-785A36EF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38D-F01F-4C76-8C8E-31A642F7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AED-BB55-47E7-B1D5-EEF7DE52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355-FF79-47FD-89D3-A3136B1B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3C5-2795-428F-A424-E78809B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71555-2317-4B7C-B79F-624AA117B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Return To The M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Desig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uly 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657240" y="4724280"/>
            <a:ext cx="21726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uis B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shua Eli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son F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itha</a:t>
            </a: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6" descr="C:\Documents and Settings\Owner\My Documents\QuadRover\Slide Header.jpg"/>
          <p:cNvPicPr/>
          <p:nvPr/>
        </p:nvPicPr>
        <p:blipFill>
          <a:blip r:embed="rId1"/>
          <a:stretch/>
        </p:blipFill>
        <p:spPr>
          <a:xfrm>
            <a:off x="1447920" y="304920"/>
            <a:ext cx="66070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allax Propeller Microcontro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rocontrolle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3V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 processors (co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bit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 speed up to 8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general purpose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KB RAM / 32KB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mA per I/O pin max, 25mA recommended, 300mA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s Assembly and Sp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Documents and Settings\Owner\My Documents\QuadRover\PropellerChip.jpg"/>
          <p:cNvPicPr/>
          <p:nvPr/>
        </p:nvPicPr>
        <p:blipFill>
          <a:blip r:embed="rId1"/>
          <a:stretch/>
        </p:blipFill>
        <p:spPr>
          <a:xfrm>
            <a:off x="5181480" y="1828800"/>
            <a:ext cx="362268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722560" y="5486400"/>
            <a:ext cx="2742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ax Propeller Pin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eller Block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Owner\My Documents\QuadRover\PropellerOrg.jpg"/>
          <p:cNvPicPr/>
          <p:nvPr/>
        </p:nvPicPr>
        <p:blipFill>
          <a:blip r:embed="rId1"/>
          <a:stretch/>
        </p:blipFill>
        <p:spPr>
          <a:xfrm>
            <a:off x="152280" y="1104840"/>
            <a:ext cx="884736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31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 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voltage: 9.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rain: 17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: 2.4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brakes, thrott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ydraulic solen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990720"/>
            <a:ext cx="51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 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ly voltage: 5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drain: 80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 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s 3 ser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ft brake, Right brake, Throt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mable signal loss oper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s 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ault 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7" descr="C:\Documents and Settings\Owner\My Documents\QuadRover\transmitter.jpg"/>
          <p:cNvPicPr/>
          <p:nvPr/>
        </p:nvPicPr>
        <p:blipFill>
          <a:blip r:embed="rId1"/>
          <a:stretch/>
        </p:blipFill>
        <p:spPr>
          <a:xfrm>
            <a:off x="1066680" y="4191120"/>
            <a:ext cx="2789280" cy="232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Owner\My Documents\QuadRover\Receiver.jpg"/>
          <p:cNvPicPr/>
          <p:nvPr/>
        </p:nvPicPr>
        <p:blipFill>
          <a:blip r:embed="rId2"/>
          <a:stretch/>
        </p:blipFill>
        <p:spPr>
          <a:xfrm>
            <a:off x="5257800" y="4511520"/>
            <a:ext cx="227484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ote Control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signals from RC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Left/Right brake and Thro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solenoid v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can the robot trave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errain can the robot travers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the robot traverse a type of terr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asily can it do a zero turn radius mane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ange of the transmitt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controller can act as a kill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dio Bea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ra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vely low power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at area of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mni-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for mobile robotic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oving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e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on is radio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180400" y="6053040"/>
            <a:ext cx="378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lateration Position Determ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C:\Documents and Settings\Owner\My Documents\QuadRover\trilateration.jpg"/>
          <p:cNvPicPr/>
          <p:nvPr/>
        </p:nvPicPr>
        <p:blipFill>
          <a:blip r:embed="rId1"/>
          <a:stretch/>
        </p:blipFill>
        <p:spPr>
          <a:xfrm>
            <a:off x="5897520" y="2743200"/>
            <a:ext cx="30178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ltra Wideband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Domain PulsON 210 UWB Ra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ng frequency: 4.7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: 7.5V, ~1A, 6.5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ze: 4” x 6” x 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ge of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 1-2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DP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ge: 100 met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osition accuracy: ~1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field radi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Update rate: ~8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rover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:\Documents and Settings\Owner\My Documents\QuadRover\TDRadio.jpg"/>
          <p:cNvPicPr/>
          <p:nvPr/>
        </p:nvPicPr>
        <p:blipFill>
          <a:blip r:embed="rId1"/>
          <a:stretch/>
        </p:blipFill>
        <p:spPr>
          <a:xfrm>
            <a:off x="5638680" y="1981080"/>
            <a:ext cx="2971800" cy="31323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5797440" y="2133720"/>
            <a:ext cx="1473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 Bea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stacle Avo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unknown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ar away is the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change of dist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bject’s ex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Documents and Settings\Owner\My Documents\QuadRover\MoonRock.jpg"/>
          <p:cNvPicPr/>
          <p:nvPr/>
        </p:nvPicPr>
        <p:blipFill>
          <a:blip r:embed="rId1"/>
          <a:stretch/>
        </p:blipFill>
        <p:spPr>
          <a:xfrm>
            <a:off x="5668920" y="1905120"/>
            <a:ext cx="3246480" cy="33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CK L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voltage: 24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power: 3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temp: 0ºC to +50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 comm: 9600 - 56k b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angle: 180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ular resolution: 0.5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70mm out to 50m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can every 80ms (12.5 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Documents and Settings\Owner\My Documents\QuadRover\SICK.jpg"/>
          <p:cNvPicPr/>
          <p:nvPr/>
        </p:nvPicPr>
        <p:blipFill>
          <a:blip r:embed="rId1"/>
          <a:stretch/>
        </p:blipFill>
        <p:spPr>
          <a:xfrm>
            <a:off x="5943600" y="1295280"/>
            <a:ext cx="27892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6788160" y="4648320"/>
            <a:ext cx="1546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er Ran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31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el Enco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791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ted Switch Position En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emitting di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PN photo-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mm lead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tact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i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urrent: 10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Voltage: 3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Phototransis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or Current: 100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tter-Collector Voltage: 0.4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or-Emitter Voltage: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402240" y="4876920"/>
            <a:ext cx="1959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to-Interrup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tted Swit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C:\Documents and Settings\Owner\My Documents\QuadRover\photointerrupter.jpg"/>
          <p:cNvPicPr/>
          <p:nvPr/>
        </p:nvPicPr>
        <p:blipFill>
          <a:blip r:embed="rId1"/>
          <a:stretch/>
        </p:blipFill>
        <p:spPr>
          <a:xfrm>
            <a:off x="5486400" y="2133720"/>
            <a:ext cx="3657600" cy="26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ditional Power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of LM2576 series (DC-DC Conver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V – 40V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2576T-12, -5, 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V input; 12V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V input; 5V and 3.3V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d 3A outpu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only 4 extern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eat sink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s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readily available standard indu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C:\Documents and Settings\Owner\My Documents\QuadRover\Regulator.jpg"/>
          <p:cNvPicPr/>
          <p:nvPr/>
        </p:nvPicPr>
        <p:blipFill>
          <a:blip r:embed="rId1"/>
          <a:stretch/>
        </p:blipFill>
        <p:spPr>
          <a:xfrm>
            <a:off x="6324480" y="1752480"/>
            <a:ext cx="2422800" cy="2136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Owner\My Documents\QuadRover\RegCircuit.jpg"/>
          <p:cNvPicPr/>
          <p:nvPr/>
        </p:nvPicPr>
        <p:blipFill>
          <a:blip r:embed="rId2"/>
          <a:stretch/>
        </p:blipFill>
        <p:spPr>
          <a:xfrm>
            <a:off x="4800600" y="4114800"/>
            <a:ext cx="404640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31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wer Supply Sche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:\Documents and Settings\Owner\My Documents\QuadRover\DC-DC Triple Power Supply.jpg"/>
          <p:cNvPicPr/>
          <p:nvPr/>
        </p:nvPicPr>
        <p:blipFill>
          <a:blip r:embed="rId1"/>
          <a:stretch/>
        </p:blipFill>
        <p:spPr>
          <a:xfrm>
            <a:off x="1752480" y="990720"/>
            <a:ext cx="6248520" cy="55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ptop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ptop will be used if the Propeller microcontroller is not powerful enough to handle our navigation and interfac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faster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interface with the radios and L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programmed in C or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ogging is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crocontroller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7" descr="C:\Documents and Settings\Owner\My Documents\QuadRover\MicroInterfaces.jpg"/>
          <p:cNvPicPr/>
          <p:nvPr/>
        </p:nvPicPr>
        <p:blipFill>
          <a:blip r:embed="rId1"/>
          <a:stretch/>
        </p:blipFill>
        <p:spPr>
          <a:xfrm>
            <a:off x="533520" y="1600200"/>
            <a:ext cx="8092800" cy="4525920"/>
          </a:xfrm>
          <a:prstGeom prst="rect">
            <a:avLst/>
          </a:prstGeom>
          <a:ln w="19080">
            <a:solidFill>
              <a:srgbClr val="0d0d0d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n Of Action / Project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Control of Rob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R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robots locomotion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robot to the radio beac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Ultra Wideband radio system to get position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point navigation with no obsta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o determine how to make the robot move from waypoint A to waypoint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bstacles will be in th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point navigation with known obsta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ill implement Fuzzy controls to compute how to traveling to a waypoint and avoid an obsta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point navigation with unknown obsta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LADAR sensor to detect any unknown obstacles and avoid according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800600" y="5410080"/>
            <a:ext cx="4191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- This is the price for one radio on the robot.  The system uses 4 more for position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676520" y="3886200"/>
            <a:ext cx="62481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ery Tot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  7 Amp-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Worse case:      30 min  (running laptop off batte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ominal case:    3 h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189"/>
          <p:cNvGrpSpPr/>
          <p:nvPr/>
        </p:nvGrpSpPr>
        <p:grpSpPr>
          <a:xfrm>
            <a:off x="1219320" y="1143000"/>
            <a:ext cx="7086240" cy="2590560"/>
            <a:chOff x="1219320" y="1143000"/>
            <a:chExt cx="7086240" cy="2590560"/>
          </a:xfrm>
        </p:grpSpPr>
        <p:sp>
          <p:nvSpPr>
            <p:cNvPr id="117" name="AutoShape 116"/>
            <p:cNvSpPr/>
            <p:nvPr/>
          </p:nvSpPr>
          <p:spPr>
            <a:xfrm>
              <a:off x="1219320" y="1143000"/>
              <a:ext cx="708624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118"/>
            <p:cNvSpPr/>
            <p:nvPr/>
          </p:nvSpPr>
          <p:spPr>
            <a:xfrm>
              <a:off x="1272960" y="1171440"/>
              <a:ext cx="861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119"/>
            <p:cNvSpPr/>
            <p:nvPr/>
          </p:nvSpPr>
          <p:spPr>
            <a:xfrm>
              <a:off x="3609000" y="1171440"/>
              <a:ext cx="866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120"/>
            <p:cNvSpPr/>
            <p:nvPr/>
          </p:nvSpPr>
          <p:spPr>
            <a:xfrm>
              <a:off x="4771800" y="1171440"/>
              <a:ext cx="825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121"/>
            <p:cNvSpPr/>
            <p:nvPr/>
          </p:nvSpPr>
          <p:spPr>
            <a:xfrm>
              <a:off x="6091920" y="1171440"/>
              <a:ext cx="686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22"/>
            <p:cNvSpPr/>
            <p:nvPr/>
          </p:nvSpPr>
          <p:spPr>
            <a:xfrm>
              <a:off x="7430400" y="1171440"/>
              <a:ext cx="5083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123"/>
            <p:cNvSpPr/>
            <p:nvPr/>
          </p:nvSpPr>
          <p:spPr>
            <a:xfrm>
              <a:off x="1272960" y="1457640"/>
              <a:ext cx="1296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d Ro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124"/>
            <p:cNvSpPr/>
            <p:nvPr/>
          </p:nvSpPr>
          <p:spPr>
            <a:xfrm>
              <a:off x="4037760" y="1457640"/>
              <a:ext cx="950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125"/>
            <p:cNvSpPr/>
            <p:nvPr/>
          </p:nvSpPr>
          <p:spPr>
            <a:xfrm>
              <a:off x="5180400" y="1457640"/>
              <a:ext cx="153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26"/>
            <p:cNvSpPr/>
            <p:nvPr/>
          </p:nvSpPr>
          <p:spPr>
            <a:xfrm>
              <a:off x="6412320" y="1457640"/>
              <a:ext cx="153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127"/>
            <p:cNvSpPr/>
            <p:nvPr/>
          </p:nvSpPr>
          <p:spPr>
            <a:xfrm>
              <a:off x="7162560" y="1447920"/>
              <a:ext cx="9255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$  </a:t>
              </a:r>
              <a:r>
                <a:rPr b="1" lang="en-US" sz="1800" spc="-1" strike="noStrike">
                  <a:solidFill>
                    <a:srgbClr val="0d0d0d"/>
                  </a:solidFill>
                  <a:latin typeface="Arial"/>
                </a:rPr>
                <a:t>5,5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128"/>
            <p:cNvSpPr/>
            <p:nvPr/>
          </p:nvSpPr>
          <p:spPr>
            <a:xfrm>
              <a:off x="1271520" y="1743840"/>
              <a:ext cx="17154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eller Boa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129"/>
            <p:cNvSpPr/>
            <p:nvPr/>
          </p:nvSpPr>
          <p:spPr>
            <a:xfrm>
              <a:off x="3860640" y="1743840"/>
              <a:ext cx="470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30"/>
            <p:cNvSpPr/>
            <p:nvPr/>
          </p:nvSpPr>
          <p:spPr>
            <a:xfrm>
              <a:off x="4932000" y="1743840"/>
              <a:ext cx="621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1"/>
            <p:cNvSpPr/>
            <p:nvPr/>
          </p:nvSpPr>
          <p:spPr>
            <a:xfrm>
              <a:off x="6038640" y="1743840"/>
              <a:ext cx="7869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32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132"/>
            <p:cNvSpPr/>
            <p:nvPr/>
          </p:nvSpPr>
          <p:spPr>
            <a:xfrm>
              <a:off x="7644240" y="1743840"/>
              <a:ext cx="153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133"/>
            <p:cNvSpPr/>
            <p:nvPr/>
          </p:nvSpPr>
          <p:spPr>
            <a:xfrm>
              <a:off x="1272600" y="2030040"/>
              <a:ext cx="1332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ck LAD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134"/>
            <p:cNvSpPr/>
            <p:nvPr/>
          </p:nvSpPr>
          <p:spPr>
            <a:xfrm>
              <a:off x="3896640" y="2030040"/>
              <a:ext cx="4060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4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135"/>
            <p:cNvSpPr/>
            <p:nvPr/>
          </p:nvSpPr>
          <p:spPr>
            <a:xfrm>
              <a:off x="4932000" y="2030040"/>
              <a:ext cx="6087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25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136"/>
            <p:cNvSpPr/>
            <p:nvPr/>
          </p:nvSpPr>
          <p:spPr>
            <a:xfrm>
              <a:off x="6216840" y="2030040"/>
              <a:ext cx="470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137"/>
            <p:cNvSpPr/>
            <p:nvPr/>
          </p:nvSpPr>
          <p:spPr>
            <a:xfrm>
              <a:off x="7377120" y="2030040"/>
              <a:ext cx="6483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$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,2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138"/>
            <p:cNvSpPr/>
            <p:nvPr/>
          </p:nvSpPr>
          <p:spPr>
            <a:xfrm>
              <a:off x="1272600" y="2316600"/>
              <a:ext cx="14364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Doma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139"/>
            <p:cNvSpPr/>
            <p:nvPr/>
          </p:nvSpPr>
          <p:spPr>
            <a:xfrm>
              <a:off x="3860640" y="2316600"/>
              <a:ext cx="470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.5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40"/>
            <p:cNvSpPr/>
            <p:nvPr/>
          </p:nvSpPr>
          <p:spPr>
            <a:xfrm>
              <a:off x="4879440" y="2285280"/>
              <a:ext cx="735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866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41"/>
            <p:cNvSpPr/>
            <p:nvPr/>
          </p:nvSpPr>
          <p:spPr>
            <a:xfrm>
              <a:off x="6180120" y="2316600"/>
              <a:ext cx="5342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5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42"/>
            <p:cNvSpPr/>
            <p:nvPr/>
          </p:nvSpPr>
          <p:spPr>
            <a:xfrm>
              <a:off x="7391520" y="2285280"/>
              <a:ext cx="7030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$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143"/>
            <p:cNvSpPr/>
            <p:nvPr/>
          </p:nvSpPr>
          <p:spPr>
            <a:xfrm>
              <a:off x="1271160" y="2602800"/>
              <a:ext cx="7642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pt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4"/>
            <p:cNvSpPr/>
            <p:nvPr/>
          </p:nvSpPr>
          <p:spPr>
            <a:xfrm>
              <a:off x="3789720" y="2602800"/>
              <a:ext cx="596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.5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145"/>
            <p:cNvSpPr/>
            <p:nvPr/>
          </p:nvSpPr>
          <p:spPr>
            <a:xfrm>
              <a:off x="4932000" y="2602800"/>
              <a:ext cx="6087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62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146"/>
            <p:cNvSpPr/>
            <p:nvPr/>
          </p:nvSpPr>
          <p:spPr>
            <a:xfrm>
              <a:off x="6216840" y="2602800"/>
              <a:ext cx="470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147"/>
            <p:cNvSpPr/>
            <p:nvPr/>
          </p:nvSpPr>
          <p:spPr>
            <a:xfrm>
              <a:off x="7590960" y="2602800"/>
              <a:ext cx="4579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$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148"/>
            <p:cNvSpPr/>
            <p:nvPr/>
          </p:nvSpPr>
          <p:spPr>
            <a:xfrm>
              <a:off x="1274760" y="2889000"/>
              <a:ext cx="1584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lerome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149"/>
            <p:cNvSpPr/>
            <p:nvPr/>
          </p:nvSpPr>
          <p:spPr>
            <a:xfrm>
              <a:off x="3967560" y="2889000"/>
              <a:ext cx="279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150"/>
            <p:cNvSpPr/>
            <p:nvPr/>
          </p:nvSpPr>
          <p:spPr>
            <a:xfrm>
              <a:off x="5004000" y="2889000"/>
              <a:ext cx="4946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151"/>
            <p:cNvSpPr/>
            <p:nvPr/>
          </p:nvSpPr>
          <p:spPr>
            <a:xfrm>
              <a:off x="6038640" y="2889000"/>
              <a:ext cx="7869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025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52"/>
            <p:cNvSpPr/>
            <p:nvPr/>
          </p:nvSpPr>
          <p:spPr>
            <a:xfrm>
              <a:off x="7773480" y="2896200"/>
              <a:ext cx="2538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53"/>
            <p:cNvSpPr/>
            <p:nvPr/>
          </p:nvSpPr>
          <p:spPr>
            <a:xfrm>
              <a:off x="1272240" y="3461400"/>
              <a:ext cx="5479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154"/>
            <p:cNvSpPr/>
            <p:nvPr/>
          </p:nvSpPr>
          <p:spPr>
            <a:xfrm>
              <a:off x="4861440" y="3461400"/>
              <a:ext cx="735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781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155"/>
            <p:cNvSpPr/>
            <p:nvPr/>
          </p:nvSpPr>
          <p:spPr>
            <a:xfrm>
              <a:off x="5966640" y="3461400"/>
              <a:ext cx="9136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6.66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56"/>
            <p:cNvSpPr/>
            <p:nvPr/>
          </p:nvSpPr>
          <p:spPr>
            <a:xfrm>
              <a:off x="7239600" y="3461400"/>
              <a:ext cx="8877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$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,3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157"/>
            <p:cNvSpPr/>
            <p:nvPr/>
          </p:nvSpPr>
          <p:spPr>
            <a:xfrm>
              <a:off x="1219320" y="114300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158"/>
            <p:cNvSpPr/>
            <p:nvPr/>
          </p:nvSpPr>
          <p:spPr>
            <a:xfrm>
              <a:off x="1219320" y="114300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159"/>
            <p:cNvSpPr/>
            <p:nvPr/>
          </p:nvSpPr>
          <p:spPr>
            <a:xfrm>
              <a:off x="1219320" y="1428840"/>
              <a:ext cx="706788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160"/>
            <p:cNvSpPr/>
            <p:nvPr/>
          </p:nvSpPr>
          <p:spPr>
            <a:xfrm>
              <a:off x="1219320" y="1428840"/>
              <a:ext cx="70678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161"/>
            <p:cNvSpPr/>
            <p:nvPr/>
          </p:nvSpPr>
          <p:spPr>
            <a:xfrm>
              <a:off x="1219320" y="1715040"/>
              <a:ext cx="706788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162"/>
            <p:cNvSpPr/>
            <p:nvPr/>
          </p:nvSpPr>
          <p:spPr>
            <a:xfrm>
              <a:off x="1219320" y="1715040"/>
              <a:ext cx="70678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63"/>
            <p:cNvSpPr/>
            <p:nvPr/>
          </p:nvSpPr>
          <p:spPr>
            <a:xfrm>
              <a:off x="1219320" y="200196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164"/>
            <p:cNvSpPr/>
            <p:nvPr/>
          </p:nvSpPr>
          <p:spPr>
            <a:xfrm>
              <a:off x="1219320" y="200196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65"/>
            <p:cNvSpPr/>
            <p:nvPr/>
          </p:nvSpPr>
          <p:spPr>
            <a:xfrm>
              <a:off x="1219320" y="228816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66"/>
            <p:cNvSpPr/>
            <p:nvPr/>
          </p:nvSpPr>
          <p:spPr>
            <a:xfrm>
              <a:off x="1219320" y="228816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67"/>
            <p:cNvSpPr/>
            <p:nvPr/>
          </p:nvSpPr>
          <p:spPr>
            <a:xfrm>
              <a:off x="1219320" y="257436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68"/>
            <p:cNvSpPr/>
            <p:nvPr/>
          </p:nvSpPr>
          <p:spPr>
            <a:xfrm>
              <a:off x="1219320" y="257436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69"/>
            <p:cNvSpPr/>
            <p:nvPr/>
          </p:nvSpPr>
          <p:spPr>
            <a:xfrm>
              <a:off x="1219320" y="286056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170"/>
            <p:cNvSpPr/>
            <p:nvPr/>
          </p:nvSpPr>
          <p:spPr>
            <a:xfrm>
              <a:off x="1219320" y="286056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71"/>
            <p:cNvSpPr/>
            <p:nvPr/>
          </p:nvSpPr>
          <p:spPr>
            <a:xfrm>
              <a:off x="1219320" y="3146760"/>
              <a:ext cx="706788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72"/>
            <p:cNvSpPr/>
            <p:nvPr/>
          </p:nvSpPr>
          <p:spPr>
            <a:xfrm>
              <a:off x="1219320" y="3146760"/>
              <a:ext cx="70678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173"/>
            <p:cNvSpPr/>
            <p:nvPr/>
          </p:nvSpPr>
          <p:spPr>
            <a:xfrm>
              <a:off x="1219320" y="3432600"/>
              <a:ext cx="706788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74"/>
            <p:cNvSpPr/>
            <p:nvPr/>
          </p:nvSpPr>
          <p:spPr>
            <a:xfrm>
              <a:off x="1219320" y="3432600"/>
              <a:ext cx="70678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5"/>
            <p:cNvSpPr/>
            <p:nvPr/>
          </p:nvSpPr>
          <p:spPr>
            <a:xfrm>
              <a:off x="1219320" y="371952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76"/>
            <p:cNvSpPr/>
            <p:nvPr/>
          </p:nvSpPr>
          <p:spPr>
            <a:xfrm>
              <a:off x="1219320" y="371952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177"/>
            <p:cNvSpPr/>
            <p:nvPr/>
          </p:nvSpPr>
          <p:spPr>
            <a:xfrm>
              <a:off x="1219320" y="1143000"/>
              <a:ext cx="252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178"/>
            <p:cNvSpPr/>
            <p:nvPr/>
          </p:nvSpPr>
          <p:spPr>
            <a:xfrm>
              <a:off x="1219320" y="1143000"/>
              <a:ext cx="1728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79"/>
            <p:cNvSpPr/>
            <p:nvPr/>
          </p:nvSpPr>
          <p:spPr>
            <a:xfrm>
              <a:off x="3539160" y="1143000"/>
              <a:ext cx="324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80"/>
            <p:cNvSpPr/>
            <p:nvPr/>
          </p:nvSpPr>
          <p:spPr>
            <a:xfrm>
              <a:off x="3539160" y="1143000"/>
              <a:ext cx="1800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181"/>
            <p:cNvSpPr/>
            <p:nvPr/>
          </p:nvSpPr>
          <p:spPr>
            <a:xfrm>
              <a:off x="4682160" y="1143000"/>
              <a:ext cx="252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82"/>
            <p:cNvSpPr/>
            <p:nvPr/>
          </p:nvSpPr>
          <p:spPr>
            <a:xfrm>
              <a:off x="4682160" y="1143000"/>
              <a:ext cx="1728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183"/>
            <p:cNvSpPr/>
            <p:nvPr/>
          </p:nvSpPr>
          <p:spPr>
            <a:xfrm>
              <a:off x="5824080" y="1143000"/>
              <a:ext cx="252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84"/>
            <p:cNvSpPr/>
            <p:nvPr/>
          </p:nvSpPr>
          <p:spPr>
            <a:xfrm>
              <a:off x="5824080" y="1143000"/>
              <a:ext cx="1728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185"/>
            <p:cNvSpPr/>
            <p:nvPr/>
          </p:nvSpPr>
          <p:spPr>
            <a:xfrm>
              <a:off x="7144920" y="1143000"/>
              <a:ext cx="252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186"/>
            <p:cNvSpPr/>
            <p:nvPr/>
          </p:nvSpPr>
          <p:spPr>
            <a:xfrm>
              <a:off x="7144920" y="1143000"/>
              <a:ext cx="1728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187"/>
            <p:cNvSpPr/>
            <p:nvPr/>
          </p:nvSpPr>
          <p:spPr>
            <a:xfrm>
              <a:off x="8287200" y="1143000"/>
              <a:ext cx="324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88"/>
            <p:cNvSpPr/>
            <p:nvPr/>
          </p:nvSpPr>
          <p:spPr>
            <a:xfrm>
              <a:off x="8287200" y="1143000"/>
              <a:ext cx="1800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9"/>
          <p:cNvSpPr/>
          <p:nvPr/>
        </p:nvSpPr>
        <p:spPr>
          <a:xfrm>
            <a:off x="1143000" y="1676520"/>
            <a:ext cx="69343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1184400" y="1706400"/>
            <a:ext cx="5205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42"/>
          <p:cNvSpPr/>
          <p:nvPr/>
        </p:nvSpPr>
        <p:spPr>
          <a:xfrm>
            <a:off x="3978720" y="1706400"/>
            <a:ext cx="989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e 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5186880" y="1706400"/>
            <a:ext cx="13449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1183680" y="2003400"/>
            <a:ext cx="1919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3894480" y="2003400"/>
            <a:ext cx="8373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JU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6"/>
          <p:cNvSpPr/>
          <p:nvPr/>
        </p:nvSpPr>
        <p:spPr>
          <a:xfrm>
            <a:off x="5185080" y="2003400"/>
            <a:ext cx="277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5185800" y="2300400"/>
            <a:ext cx="1766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184040" y="2598840"/>
            <a:ext cx="22104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3908520" y="2598840"/>
            <a:ext cx="749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 JU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5185080" y="2598840"/>
            <a:ext cx="277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184040" y="2895480"/>
            <a:ext cx="2743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monst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2"/>
          <p:cNvSpPr/>
          <p:nvPr/>
        </p:nvSpPr>
        <p:spPr>
          <a:xfrm>
            <a:off x="4038480" y="2895480"/>
            <a:ext cx="470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3"/>
          <p:cNvSpPr/>
          <p:nvPr/>
        </p:nvSpPr>
        <p:spPr>
          <a:xfrm>
            <a:off x="5186160" y="2895480"/>
            <a:ext cx="24390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otic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4"/>
          <p:cNvSpPr/>
          <p:nvPr/>
        </p:nvSpPr>
        <p:spPr>
          <a:xfrm>
            <a:off x="5185080" y="3192480"/>
            <a:ext cx="277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55"/>
          <p:cNvSpPr/>
          <p:nvPr/>
        </p:nvSpPr>
        <p:spPr>
          <a:xfrm>
            <a:off x="1183320" y="3489480"/>
            <a:ext cx="1983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3908520" y="3489480"/>
            <a:ext cx="749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 JU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57"/>
          <p:cNvSpPr/>
          <p:nvPr/>
        </p:nvSpPr>
        <p:spPr>
          <a:xfrm>
            <a:off x="5185800" y="3489480"/>
            <a:ext cx="1766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58"/>
          <p:cNvSpPr/>
          <p:nvPr/>
        </p:nvSpPr>
        <p:spPr>
          <a:xfrm>
            <a:off x="5185440" y="3787920"/>
            <a:ext cx="1957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Workbo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59"/>
          <p:cNvSpPr/>
          <p:nvPr/>
        </p:nvSpPr>
        <p:spPr>
          <a:xfrm>
            <a:off x="1183320" y="4084560"/>
            <a:ext cx="9547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3808440" y="4084560"/>
            <a:ext cx="1273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61"/>
          <p:cNvSpPr/>
          <p:nvPr/>
        </p:nvSpPr>
        <p:spPr>
          <a:xfrm>
            <a:off x="5184360" y="4084560"/>
            <a:ext cx="1667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 Vid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62"/>
          <p:cNvSpPr/>
          <p:nvPr/>
        </p:nvSpPr>
        <p:spPr>
          <a:xfrm>
            <a:off x="5186520" y="4381560"/>
            <a:ext cx="1777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ax Foru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63"/>
          <p:cNvSpPr/>
          <p:nvPr/>
        </p:nvSpPr>
        <p:spPr>
          <a:xfrm>
            <a:off x="1143000" y="167652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4"/>
          <p:cNvSpPr/>
          <p:nvPr/>
        </p:nvSpPr>
        <p:spPr>
          <a:xfrm>
            <a:off x="1143000" y="1676520"/>
            <a:ext cx="691992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65"/>
          <p:cNvSpPr/>
          <p:nvPr/>
        </p:nvSpPr>
        <p:spPr>
          <a:xfrm>
            <a:off x="1143000" y="197316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66"/>
          <p:cNvSpPr/>
          <p:nvPr/>
        </p:nvSpPr>
        <p:spPr>
          <a:xfrm>
            <a:off x="1143000" y="1973160"/>
            <a:ext cx="69199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7"/>
          <p:cNvSpPr/>
          <p:nvPr/>
        </p:nvSpPr>
        <p:spPr>
          <a:xfrm>
            <a:off x="1143000" y="227160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143000" y="227160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69"/>
          <p:cNvSpPr/>
          <p:nvPr/>
        </p:nvSpPr>
        <p:spPr>
          <a:xfrm>
            <a:off x="1143000" y="256860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143000" y="256860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71"/>
          <p:cNvSpPr/>
          <p:nvPr/>
        </p:nvSpPr>
        <p:spPr>
          <a:xfrm>
            <a:off x="1143000" y="286560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143000" y="2865600"/>
            <a:ext cx="691992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73"/>
          <p:cNvSpPr/>
          <p:nvPr/>
        </p:nvSpPr>
        <p:spPr>
          <a:xfrm>
            <a:off x="1143000" y="316224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143000" y="3162240"/>
            <a:ext cx="69199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75"/>
          <p:cNvSpPr/>
          <p:nvPr/>
        </p:nvSpPr>
        <p:spPr>
          <a:xfrm>
            <a:off x="1143000" y="346068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76"/>
          <p:cNvSpPr/>
          <p:nvPr/>
        </p:nvSpPr>
        <p:spPr>
          <a:xfrm>
            <a:off x="1143000" y="346068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77"/>
          <p:cNvSpPr/>
          <p:nvPr/>
        </p:nvSpPr>
        <p:spPr>
          <a:xfrm>
            <a:off x="1143000" y="375768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78"/>
          <p:cNvSpPr/>
          <p:nvPr/>
        </p:nvSpPr>
        <p:spPr>
          <a:xfrm>
            <a:off x="1143000" y="375768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79"/>
          <p:cNvSpPr/>
          <p:nvPr/>
        </p:nvSpPr>
        <p:spPr>
          <a:xfrm>
            <a:off x="1143000" y="405432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80"/>
          <p:cNvSpPr/>
          <p:nvPr/>
        </p:nvSpPr>
        <p:spPr>
          <a:xfrm>
            <a:off x="1143000" y="405432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81"/>
          <p:cNvSpPr/>
          <p:nvPr/>
        </p:nvSpPr>
        <p:spPr>
          <a:xfrm>
            <a:off x="1143000" y="435132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2"/>
          <p:cNvSpPr/>
          <p:nvPr/>
        </p:nvSpPr>
        <p:spPr>
          <a:xfrm>
            <a:off x="1143000" y="4351320"/>
            <a:ext cx="69199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83"/>
          <p:cNvSpPr/>
          <p:nvPr/>
        </p:nvSpPr>
        <p:spPr>
          <a:xfrm>
            <a:off x="1143000" y="464976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84"/>
          <p:cNvSpPr/>
          <p:nvPr/>
        </p:nvSpPr>
        <p:spPr>
          <a:xfrm>
            <a:off x="1143000" y="464976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85"/>
          <p:cNvSpPr/>
          <p:nvPr/>
        </p:nvSpPr>
        <p:spPr>
          <a:xfrm>
            <a:off x="1143000" y="1676520"/>
            <a:ext cx="1440" cy="2987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86"/>
          <p:cNvSpPr/>
          <p:nvPr/>
        </p:nvSpPr>
        <p:spPr>
          <a:xfrm>
            <a:off x="1143000" y="1676520"/>
            <a:ext cx="14400" cy="298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87"/>
          <p:cNvSpPr/>
          <p:nvPr/>
        </p:nvSpPr>
        <p:spPr>
          <a:xfrm>
            <a:off x="3700440" y="1676520"/>
            <a:ext cx="1440" cy="2987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88"/>
          <p:cNvSpPr/>
          <p:nvPr/>
        </p:nvSpPr>
        <p:spPr>
          <a:xfrm>
            <a:off x="3700440" y="1676520"/>
            <a:ext cx="12600" cy="298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89"/>
          <p:cNvSpPr/>
          <p:nvPr/>
        </p:nvSpPr>
        <p:spPr>
          <a:xfrm>
            <a:off x="5145120" y="1676520"/>
            <a:ext cx="1440" cy="2987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90"/>
          <p:cNvSpPr/>
          <p:nvPr/>
        </p:nvSpPr>
        <p:spPr>
          <a:xfrm>
            <a:off x="5145120" y="1676520"/>
            <a:ext cx="14400" cy="298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91"/>
          <p:cNvSpPr/>
          <p:nvPr/>
        </p:nvSpPr>
        <p:spPr>
          <a:xfrm>
            <a:off x="8062920" y="1676520"/>
            <a:ext cx="1440" cy="2987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92"/>
          <p:cNvSpPr/>
          <p:nvPr/>
        </p:nvSpPr>
        <p:spPr>
          <a:xfrm>
            <a:off x="8062920" y="1676520"/>
            <a:ext cx="14400" cy="298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 Paper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Seraji: “Traversability Index: A New Concept for Planetary Rovers”, Proceedings IEEE International Conference on Robotics &amp; Automation”, pp. 2006 – 2013, 1999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Howard, H. Seraji, E. Tunsel: “A Rule-Based Traversability Index for Mobile Robot Navigation”, Proceedings IEEE International Conference on Robotics &amp; Automation”, pp. 3067 – 3071, 2001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Seraji, A. Howard, E. Tunstel: “Safe Naviagation on Hazardous Terrain”, Proceedings IEEE International Conference on Robotics &amp; Automation”, pp. 3084 – 3091, 2001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Seraji: “Terrain-Based Robot Navigation Using Multi-Scale Traversability Indices”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 Interational Conference on Fuzzy Systems, pp. 1309 – 1314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autonomous lunar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ility Study sugg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 beacons for loc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system for obstacle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wheel drive buggy for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PL papers propose Fuzzy Control software architectur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ject follows from these pre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vigate using a remote contro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platform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con waypoint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con navigation with mapped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con navigation with mapped hazards and unknown obst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ad reckoning to saf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llax RC code and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bility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ut-off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acon navigation for rover loc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ltra Wideband radio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tacle Detection /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CK L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 Rec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 Encoders (tra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ometer (sl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yroscope (tu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tional Parts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ax QuadR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ax Propeller Micro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 UWB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 L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ower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Documents and Settings\Owner\My Documents\QuadRover\QuadRover.jpg"/>
          <p:cNvPicPr/>
          <p:nvPr/>
        </p:nvPicPr>
        <p:blipFill>
          <a:blip r:embed="rId1"/>
          <a:stretch/>
        </p:blipFill>
        <p:spPr>
          <a:xfrm>
            <a:off x="5410080" y="3417840"/>
            <a:ext cx="3268800" cy="2525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727240" y="6019920"/>
            <a:ext cx="2663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ax QuadR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646200" y="1838160"/>
          <a:ext cx="7735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838160"/>
                    <a:ext cx="7735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allax Quad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ove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WD cha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d-steer drive 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da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powered, 4-str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 hors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 gal fuel 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aulic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fo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control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bbies and enter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Documents and Settings\Owner\My Documents\QuadRover\QuadRover2.jpg"/>
          <p:cNvPicPr/>
          <p:nvPr/>
        </p:nvPicPr>
        <p:blipFill>
          <a:blip r:embed="rId1"/>
          <a:stretch/>
        </p:blipFill>
        <p:spPr>
          <a:xfrm>
            <a:off x="5181480" y="1828800"/>
            <a:ext cx="3497400" cy="34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31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allax Quad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952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aulic Dr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aulic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s 2 independent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-cutoff va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-reverse va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System/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cutoff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board 12V 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core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br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 br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cut-off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Documents and Settings\Owner\My Documents\QuadRover\Rover Hydraulicsv2.jpg"/>
          <p:cNvPicPr/>
          <p:nvPr/>
        </p:nvPicPr>
        <p:blipFill>
          <a:blip r:embed="rId1"/>
          <a:stretch/>
        </p:blipFill>
        <p:spPr>
          <a:xfrm>
            <a:off x="5257800" y="1230480"/>
            <a:ext cx="3589200" cy="2732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Documents and Settings\Owner\My Documents\QuadRover\RoverLayOut.jpg"/>
          <p:cNvPicPr/>
          <p:nvPr/>
        </p:nvPicPr>
        <p:blipFill>
          <a:blip r:embed="rId2"/>
          <a:stretch/>
        </p:blipFill>
        <p:spPr>
          <a:xfrm>
            <a:off x="5257800" y="4035600"/>
            <a:ext cx="3657600" cy="2365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5419440" y="838080"/>
            <a:ext cx="32547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over Hydraulic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411520" y="6404040"/>
            <a:ext cx="32072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over Electrical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CE</dc:creator>
  <dc:description/>
  <dc:language>en-US</dc:language>
  <cp:lastModifiedBy> mamitha mathew</cp:lastModifiedBy>
  <dcterms:modified xsi:type="dcterms:W3CDTF">2008-07-08T23:59:12Z</dcterms:modified>
  <cp:revision>116</cp:revision>
  <dc:subject/>
  <dc:title>Return To The Moon</dc:title>
</cp:coreProperties>
</file>