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546-C294-4983-9D2E-92D97196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07C-A977-450C-8472-2176512F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F597D-72F1-4338-A972-4DB09BB9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9FE23-0AA7-4066-A3D9-42C6D494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BFE5D-D5C1-4D11-BC0A-C7C1BF97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17DAF-22E6-41BC-82FC-27C8C9EC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FFB13-9691-4D04-B64B-59807983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2E21F-8591-4773-80DF-1357B80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7F967-5075-43AE-B506-42213336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51D08-53B8-4758-953B-A17DE0B2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F4A2A-CD9D-4BA0-89A9-EAF32B50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0A7D6-8BF0-4BF6-986D-A520C53D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382-B4E1-416A-8389-9086CD0C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14112-D599-42E7-910E-1D008BAE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DCFBB-4E4F-4D41-9C85-39328912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B36D9-A15C-4542-AA6D-C5B0C379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82EF1-FC2F-4446-9C02-5C249DFC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1A3BA-B4A5-441B-B15A-2D6C8CA1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ADA53-0D6D-492A-B98F-6A3ED4FA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434A6-C9D1-4B4C-8E4D-0A9C19FB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B0BCB-40B3-45FE-B063-B7D3DFC8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94ED6-D834-4E7C-852C-28DAD668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F0078-825D-480B-B7A1-789A5DD9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7A8-15E4-4586-AE2D-4E2257AC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4DC81-49E1-4C8F-80BA-0DDDA522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914A4-4BEF-4798-B511-16C23711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BE735-695D-488D-BEA4-8C20E83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8ED01-43F3-4538-9288-A20191FB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368C3-D51E-488D-BF76-1E2228C3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4CB8D-CCF2-444F-9995-0D9E05F1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E5547-3C13-42EC-8BF6-C8520B83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671F4-17A7-49C4-83DD-A80F47DA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10938-E157-467F-8F30-938C3CC2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C83D0-02D1-4001-B1D2-895182C9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648F7-0751-4599-B8AC-FE39B13D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F5C74-281E-45CE-9EE2-076CB95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0D5A8-8627-425E-B2C3-06310FF2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951B8-C4E9-4467-8A03-5F59EAAA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19499-E513-4B4A-B09F-383363A1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C5F1E-CE06-453C-B59B-5A048014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C59D0-4E37-4F40-8088-87F7056E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9720A-D164-4B29-931A-5C9E431B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4F1E0-5301-48B3-BFF5-C5846CE3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7FCEC-EEDD-4A74-99C2-B92439AB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DE400-85AB-43AB-B2AD-46DCB911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CE69A-FF16-4666-B472-B4421E63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A9021-CE32-4EEC-BAEE-B41DC6B8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6BD14-84E8-4781-B9F2-27BFECEB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2FB97-0074-4056-A581-6620C7AC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5C2B7-212B-47A5-922B-E128A084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C09B1-7D7C-46E0-90D0-436157B7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B7AD6-646E-4D58-ADD8-740FFC26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D6F6A-C480-46D8-81B0-4B4E3702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52574-125A-4AE1-90F4-FB2A54C0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CB87B-8149-4774-AD69-BABEDB9D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C1914-B5A2-4663-B07F-51DBF50F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98A9C-F75B-41F5-867B-D18682C6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01A33-D6E4-4550-A854-77C9C309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29C47-2D3B-47F8-9846-FD3D9644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85878-A29C-4E19-BBD7-9F9FD0B4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0141A-2CC2-4FD0-963D-7B56C246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B0F15-11B4-4166-B540-2D9A4AFC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36B89-96DC-4FD5-972D-74E0EC4C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451FC-A27F-43C7-95F3-A73720A7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0984C3-B892-4474-B6F8-DDA7FA43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AF23EE-AAFE-4A42-9A4C-825F1867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BBDE59-7C74-427D-BD84-98C26A43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B19CB-BABD-47F3-BBD0-6187EFA5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6A6325-E388-40C2-8E1D-78D22479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FDCC89-897E-4A6B-9A40-8967B640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074248-8353-412C-AD16-DC79B7A4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60B6B1-6C20-4E6B-B340-B22A540A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44F99E-154C-44BF-B20F-A2888498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78044D-E9D6-40B6-BD9A-7A121706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8D0410-945A-45E3-A72B-4D44CFA9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B9269D-376F-4254-A451-C2B11556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BCDFCB-0292-4FC1-9907-E42AC9CC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2F065B-76E6-4969-968D-EB8E0C5C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F83B9-DA5A-4EC3-9DE0-C84A1804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813B43-9A37-435B-B3D9-87EF931B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B78E4D-F3F3-416F-9B8A-DEE9CB54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EBC752-1412-4047-9DE2-3C08B0FC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4654BD-A731-4E46-A26C-31588167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A88A48-2EDB-47F3-B1D9-A260AE30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ACAF3A-81E5-420E-9A3D-AC14CCE5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6110B0-08D4-4A26-85CD-A0949998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27DADF-6DA8-4937-9E96-F10FE23B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C56B3F-8E0B-4899-AECE-70514370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A2971E-7A7B-45B8-AB90-637B5824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CB300-3C15-43C4-81EA-C40F290E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116DEC-B81F-4DE8-91CE-7C3CE7B3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A34EF7-043D-4748-8962-FAF7604A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2E317A-16A2-4EE7-A77E-FD5AEDC5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5DC456-FDD3-49B9-B5E5-8FD3A5E4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B27EBE-FA39-49D8-AF8C-887C743B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E83E42-75D1-410C-AD58-32C859BC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B7510F-1663-4499-ACEF-4BF1937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204863-C1F4-450F-950F-01F6F8D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6E26F7-B7B7-49B0-961D-D3E5946A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16F618-F2E4-49A0-AC89-FDD31437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C9FF0-BFAC-4A57-80AF-766DE01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D213BE-42F0-4FA8-9E64-1DA5EE82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45525E-509E-4E56-8F2E-E613A81B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771714-58AF-4A7C-BF08-3AD51BF0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008C55-763E-4B55-8C04-9EC2AF06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56DD5C-CEBD-4BEC-BD88-0FAE9DE0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AE49F4-BBD0-428A-B1CD-88C12ACD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F0C5DD-5532-4E05-BA10-20701CD8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42AE13-F40A-430D-9DBB-45626EAD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B0BB56-F6D3-4BC1-A08D-366301BF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EE9AA8-00CE-4B41-8734-22C102ED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170-248A-4134-B44C-3FEA97EC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AD25C-2789-4F5F-B5B8-A290FDCB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819F21-9482-46B9-9591-1B4D1B5C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43C9E7-B631-4BF4-8570-830ACC43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DEDC30-F8BC-4200-9535-EC3DEFC0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E92472-177B-4423-B005-B0B6555D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FCB104-7B5B-4940-ABEB-E36B2B6E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5715CE-DA1F-4CBE-88FB-B9D61DEF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EFAE99-2488-4F1E-95BC-9CF3DAFA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614017-AF57-4714-9CD9-116B385D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016641-696B-48C5-A48D-55D205E0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F64308-DECD-4E59-B491-A3CEC332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C0C6D-C5EC-49D9-95EA-D3D57383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1A9638E-CB40-4762-A489-DE46B6B1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52F77C-C4E5-432D-A334-2FE61BB9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64A1714-28B2-4E93-A196-807260CC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627665-E0F9-4152-9447-326CA4B6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432CD2-8955-483E-80C1-8CC6986C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366616F-7071-4047-A295-6F9EF790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FD5813-2063-4A1C-89EB-A7EB25CD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81DCFD-43FA-45C4-B832-0F5BF6A0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F1D064-3C7E-4434-B055-63849EF1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D0FE98-A7EE-40B8-A041-C18DA709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D22BA-6AEA-44BA-AB68-7E1D9FAE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F416CD-B9F7-4C13-81A8-8899E757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8E0404-6229-49DC-8D7B-7607C100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14965C-9904-4FF2-9317-1C94F8F4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B03D3E-F619-4649-80C0-87F3748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F81157-249A-40D5-8642-3DC158B2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45D451-C715-45E6-A9B8-78D000EB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1D7A10-D7DD-4021-A624-035B8FD7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87CCCC-CBF4-44C9-8BCB-912CBFF4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AC3811-6864-445B-94B6-F8933D37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ED7DD7-F133-4C3A-807E-B105AE78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61759-F53A-491B-A1F3-0D602520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2564BD7-BA52-4DE4-8E0C-20AAB2FD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5BF844-969C-4D2B-84B2-43BDF4C6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4BB4FF-3F3F-48C6-BF8F-72B1F923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E47540-B347-43E5-B161-9E1D9506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DD85A1B-6D80-4F11-81C0-0F60EF6A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721198C-29F2-40CD-A951-B4621C2C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2BF116-64B3-4633-BDF1-CD2F6909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AC29F9A-783E-477A-BA3C-72FC79DD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C842A9-866F-4BA5-A4B0-F1582B16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3BE7A3F-33AA-4A5F-A146-C5FDAB00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3DDCE-ABC7-4444-8D7E-5D11C97A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5B8AF8-0366-4C4A-AAAA-B622F905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995F40-73A2-4950-961E-5F0178E8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CCEF246-5A7A-4E9B-B730-139961B7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371B0CF-68DA-431D-9BAB-C41E4630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D8E0AA8-DD88-44A9-9E54-CDD69199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B2641E-281D-4868-A19B-09CCF0AF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25EDCD5-8304-43ED-80A8-392F4D39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4B7AA4-9869-4CBB-B1F0-1D1DE468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F62EC92-C167-4846-BF26-7C2AD78B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1EEDB13-5B15-46D4-9252-017322AE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9515B-A625-4D45-A358-C738F5BD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706E08E-F54D-456B-B94C-6D847310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B1C1A1-92B6-4F18-BBAF-943CEBB3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CC791E0-8559-4D2F-BAB0-E7E15AAC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F44F20E-86DC-45A3-8124-043EF86A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887431B-E290-4CF4-9082-0F76C291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638FB6B-39A3-405A-A433-604141C0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C348884-1879-43A2-B10B-3E3F403C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219D10-0386-47F6-A9D7-642B45B9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44F7BC1-1DF0-4554-BDB8-3244950D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FBD2BD-A4A6-4821-95D2-A5F398A7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EC47D-43E1-437D-A2D8-75C92E8C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B796285-2C3A-4FC5-9743-31942378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E312DB0-4CAC-4075-8405-E3BF94EA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824032B-6CAF-4ECB-A9DA-0DFC309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EDF6777-07D0-410D-8243-7CAD0712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25C50F-7019-439A-953C-989B3C93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425E98-4DDF-485F-975E-95EE3438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6B4C3B-2D39-4755-92AF-66BF77B2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1267C33-12FE-4D6F-B40C-B64A769B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A6D1D28-C4F5-43A1-BC9A-3A1EBED9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DE3B4F-0E1E-4C51-B6EF-B69674D6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A563-3E3D-420A-AB33-9D1B42E5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05B352D-9DE1-420D-A9FD-567A0DC4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37B8A0-37A4-441B-A37D-0CAB31B6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90406E3-1F94-404A-80C0-85F8D45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7D623E-B759-4080-B122-16F5C9D9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FF4EFBA-F1DF-425A-A66D-E43C8759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D74AF0-ADE7-4E48-B070-718B46B7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30A9CEC-C8E6-43F6-BFD3-20C4A3CA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4DB4E3F-BEEA-49E9-A088-97680EBC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A4F8177-35C0-437F-BC6A-B1F62A5F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930279F-B8B1-4B1B-97BB-605555A6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E728-8AD0-4D38-8743-12314E60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D0A9B9-FD33-4A46-8EE7-71FB13A7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D50986-65A9-4F51-8838-AD4E2749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1C8A9E4-AAE6-48CE-B1A8-1FD29CEB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AADCAE7-3048-4ED1-AC41-7F844298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24A623F-D751-46C7-87A9-D81F470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891C73A-71A3-483B-B52F-F5E9BC2E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AA6E415-8185-4533-8DBB-21BD95E3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F1DF85D-50D0-4068-A80C-70C0BB66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EA48070-353C-4F62-84E8-1846E7F9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4392401-0DEC-46F2-9C81-D2810A6E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4837-FECB-48D3-A828-649C8330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6BE173-278C-4738-A478-864FC581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297C13F-3213-4E88-ABD1-11E7D3D6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B46CDCD-3BF0-4CF7-B177-F3CD2A26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2E6A480-0FA7-44AB-819A-F79A7495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E2D89A1-21E5-4324-84CB-87EFC622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7FE3EEE-580E-4893-AD93-7D06B55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81F4164-A099-4376-834B-91AB1286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79FEA28-9F46-48CB-B44C-5CAE1A9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97B8BB-5E9E-40AC-934E-E05F4405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6C8B67-6C3A-48E1-B752-18EB153A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003-B475-4787-9BB5-6EF7DE93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C842-5092-48BB-B437-F282D2EB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10E3047-196B-44D6-8079-052FEAFD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E926-9EDB-41F6-B1F1-AFC0BDAC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77AF-83AB-45F1-8B5E-FA9FBA1F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90BA-A01B-4BC6-9E96-353200BC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C4F2-7A99-4626-81ED-CC77ED2B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91BB-F381-4985-A7D6-55144B9D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0524-3FB4-453A-A2FA-3ED122A8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78B14-E6D8-4B9B-8F70-2A089587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4C09-E19E-45A8-85C1-7EAB6F68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5A66-8C80-4D2E-A3B3-FF7A9568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9B5-9FDA-454C-9BBB-EAE9DD40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9FA88-0AD5-4474-A997-5AF00E55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1B824-495A-473C-AAF4-1B893FB7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D39E8-63EE-41B4-A8AB-967221EC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BEBF4-A45C-465B-A624-572F535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F2DEC-C253-41FB-9154-9199FD74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A4946-BE4F-493B-843A-F3F4D5C9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3890-DB5E-48F0-8043-CC244891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16B8-F45F-424D-8A28-487DFCD7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E2557-3D51-4098-8AA2-EED3E128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80CBB-FE4B-45A8-A0F5-8044A12C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3AA-948D-4377-9302-69ED5B68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3EAD2-EAC4-44ED-8336-EEB90183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F1086-D057-4C50-92EC-1E8C7E15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18E1-1B3A-451E-8412-39ED66CE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559BA-2F29-4091-8852-6BBD0FE8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DCCB8-7D5B-4A10-87CC-4CDD73DE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03B5-EF68-44F8-BB1B-7CB37E3A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B157C-25FA-41C0-B350-797BC585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0A512-E12F-4817-BE24-380C9D9D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C6E78-B789-490F-ABE0-F073FF84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CE17A-7640-46BE-8F9A-28A2B1F5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359-A030-4FCC-9789-EA3853D6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6DCB-BDF8-4092-8984-6B904F19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C7CB2-DC72-41F9-9752-0AFB7F04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88F83-BF96-415C-B707-21AE129B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A911F-D0AD-4E2D-BE0F-DE502F04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8F11B-31FA-4473-B3D9-A44B00B6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F4782-135E-45D9-AD30-BAC6E9E6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3E265-61A4-41FC-9464-FBB15EF2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931FB-5127-4874-9D56-330BC0A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D0C82-1774-4E91-BCB7-85D4A569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0D057-B99C-402D-BED4-7096D4F1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B8D-031D-48AF-823C-0F3D3028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F9610-C7A4-4ED3-9C15-B52E029F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05650-6495-4F65-990B-3C9B5EC9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8F64D-FCC8-408F-9542-A1C01EB7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08035-C1DB-4B88-BFFF-E8D278C8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71E0C-40A7-4AD5-974E-DBADFBFE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82805-68F6-462A-AD29-21023624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7CD28-5497-4DE7-A79D-69E8982B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ACBC-3A81-4091-8EAB-12CF147D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0746B-D493-4F45-8C96-C4B0A173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F2E4A-9766-48B0-BB2C-589A6C3C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3CC-C633-4E77-A5E8-A27EB40F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0F20B-A387-4FFE-BA15-B0C63025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3A8C7-BFB8-484A-BE81-698F7D90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C975C-1EE7-49A5-A5C0-B9CC3C53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3AC9F-AFBD-47A0-85C7-0D8028AF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AA224-E93A-4C34-871F-9CB97046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F4E06-DC1A-403F-BB47-AC9E6FAB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A96BA-A0EC-4BC7-91E7-9221EBC0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888B0-278D-4370-BC12-D81A1F1F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EA8F1-8216-4418-B981-5EA68038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AB2F9-A47B-49A8-8555-AB5BEE0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8D2-0A08-419F-986F-C5E09445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902BB-4243-473B-8101-6999725C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46261-4BC1-465C-8D7F-10F22A46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79AE-CD63-4321-91BE-8BFB65E2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20F3F-33FE-469E-9687-B9F4444F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8A206-A3B0-41FB-B27C-EAEA609A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FAED2-EE9C-444C-A2CB-4768F158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D7725-E541-4D1B-90A1-ECF03AAA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69A87-E2D7-45EA-ABCF-139BC664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77DAA-5B28-480B-813C-3EB033E8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74587-E60F-4CC5-929F-6AA49853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56200"/>
            <a:chOff x="0" y="0"/>
            <a:chExt cx="9142560" cy="6856200"/>
          </a:xfrm>
        </p:grpSpPr>
        <p:sp>
          <p:nvSpPr>
            <p:cNvPr id="1" name="Freeform 2"/>
            <p:cNvSpPr/>
            <p:nvPr/>
          </p:nvSpPr>
          <p:spPr>
            <a:xfrm>
              <a:off x="0" y="4875840"/>
              <a:ext cx="9142560" cy="1980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9142560" cy="4875840"/>
            </a:xfrm>
            <a:prstGeom prst="pie">
              <a:avLst/>
            </a:pr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0" y="6019920"/>
            <a:ext cx="7846560" cy="855360"/>
            <a:chOff x="0" y="6019920"/>
            <a:chExt cx="7846560" cy="855360"/>
          </a:xfrm>
        </p:grpSpPr>
        <p:sp>
          <p:nvSpPr>
            <p:cNvPr id="5" name="Freeform 6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7"/>
            <p:cNvGrpSpPr/>
            <p:nvPr/>
          </p:nvGrpSpPr>
          <p:grpSpPr>
            <a:xfrm>
              <a:off x="3946680" y="6019920"/>
              <a:ext cx="3899880" cy="855360"/>
              <a:chOff x="3946680" y="6019920"/>
              <a:chExt cx="3899880" cy="85536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6266520" y="6030720"/>
                <a:ext cx="1580040" cy="8445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4249440" y="6019920"/>
                <a:ext cx="294840" cy="62604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4809240" y="6179760"/>
                <a:ext cx="599760" cy="429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758200" y="6136920"/>
                <a:ext cx="245880" cy="117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3946680" y="6125760"/>
                <a:ext cx="66240" cy="1281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14" name="Freeform 15"/>
            <p:cNvSpPr/>
            <p:nvPr/>
          </p:nvSpPr>
          <p:spPr>
            <a:xfrm>
              <a:off x="1898280" y="6021360"/>
              <a:ext cx="579240" cy="4608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3083760" y="6078240"/>
              <a:ext cx="3226320" cy="790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904480" y="6068520"/>
              <a:ext cx="11232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1356840" y="6098760"/>
              <a:ext cx="255240" cy="259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1120320" y="6117840"/>
              <a:ext cx="9324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627120" y="6049440"/>
              <a:ext cx="388440" cy="327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1B61A-5476-49D6-9A01-B272A29242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42093-8868-477C-9B37-FA63E71303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16E08-1B97-45FD-8FC3-5AAF38EBC1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DB363-0B5D-4D9B-BB70-6ADEC1D7A7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980B7-1DF6-40DE-BC1B-7D0B8B9FC0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41D34-B1BB-45ED-BF88-54E20DEC73C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A7D1A-C4C2-4F2A-9705-850A7143AF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1A879-857B-4A72-99B8-64095BCE2D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ftr" idx="4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4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95728-B660-4A90-BAA0-07E15C5963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ftr" idx="5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5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D2025-1864-47D4-9FAD-D52E7661F0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5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5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EC824-F56E-4B6E-BD14-4786924A32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ftr" idx="5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-6480" y="20520"/>
            <a:ext cx="9142560" cy="6856200"/>
            <a:chOff x="-6480" y="20520"/>
            <a:chExt cx="9142560" cy="6856200"/>
          </a:xfrm>
        </p:grpSpPr>
        <p:sp>
          <p:nvSpPr>
            <p:cNvPr id="62" name="Freeform 2"/>
            <p:cNvSpPr/>
            <p:nvPr/>
          </p:nvSpPr>
          <p:spPr>
            <a:xfrm>
              <a:off x="-6480" y="4896360"/>
              <a:ext cx="9142560" cy="1980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3"/>
            <p:cNvSpPr/>
            <p:nvPr/>
          </p:nvSpPr>
          <p:spPr>
            <a:xfrm>
              <a:off x="-6480" y="20520"/>
              <a:ext cx="9142560" cy="4875840"/>
            </a:xfrm>
            <a:prstGeom prst="pie">
              <a:avLst/>
            </a:pr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4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-1440" y="6033960"/>
            <a:ext cx="7843320" cy="849600"/>
            <a:chOff x="-1440" y="6033960"/>
            <a:chExt cx="7843320" cy="849600"/>
          </a:xfrm>
        </p:grpSpPr>
        <p:sp>
          <p:nvSpPr>
            <p:cNvPr id="66" name="Freeform 6"/>
            <p:cNvSpPr/>
            <p:nvPr/>
          </p:nvSpPr>
          <p:spPr>
            <a:xfrm>
              <a:off x="2360520" y="6033960"/>
              <a:ext cx="5143680" cy="849600"/>
            </a:xfrm>
            <a:prstGeom prst="pie">
              <a:avLst/>
            </a:pr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7"/>
            <p:cNvGrpSpPr/>
            <p:nvPr/>
          </p:nvGrpSpPr>
          <p:grpSpPr>
            <a:xfrm>
              <a:off x="3944880" y="6033960"/>
              <a:ext cx="3897000" cy="847800"/>
              <a:chOff x="3944880" y="6033960"/>
              <a:chExt cx="3897000" cy="847800"/>
            </a:xfrm>
          </p:grpSpPr>
          <p:sp>
            <p:nvSpPr>
              <p:cNvPr id="68" name="Freeform 8"/>
              <p:cNvSpPr/>
              <p:nvPr/>
            </p:nvSpPr>
            <p:spPr>
              <a:xfrm>
                <a:off x="6264720" y="6044760"/>
                <a:ext cx="1577160" cy="837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9"/>
              <p:cNvSpPr/>
              <p:nvPr/>
            </p:nvSpPr>
            <p:spPr>
              <a:xfrm>
                <a:off x="4247640" y="6033960"/>
                <a:ext cx="295200" cy="6249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808160" y="6193800"/>
                <a:ext cx="599760" cy="4284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1"/>
              <p:cNvSpPr/>
              <p:nvPr/>
            </p:nvSpPr>
            <p:spPr>
              <a:xfrm>
                <a:off x="5757120" y="6150960"/>
                <a:ext cx="245880" cy="11664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2"/>
              <p:cNvSpPr/>
              <p:nvPr/>
            </p:nvSpPr>
            <p:spPr>
              <a:xfrm>
                <a:off x="3944880" y="6139800"/>
                <a:ext cx="66240" cy="1278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3"/>
            <p:cNvSpPr/>
            <p:nvPr/>
          </p:nvSpPr>
          <p:spPr>
            <a:xfrm>
              <a:off x="-1440" y="6033960"/>
              <a:ext cx="6311880" cy="848160"/>
            </a:xfrm>
            <a:prstGeom prst="pie">
              <a:avLst/>
            </a:pr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75" name="Freeform 15"/>
            <p:cNvSpPr/>
            <p:nvPr/>
          </p:nvSpPr>
          <p:spPr>
            <a:xfrm>
              <a:off x="1898280" y="6021360"/>
              <a:ext cx="579240" cy="4608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6"/>
            <p:cNvSpPr/>
            <p:nvPr/>
          </p:nvSpPr>
          <p:spPr>
            <a:xfrm>
              <a:off x="3083760" y="6078240"/>
              <a:ext cx="3226320" cy="790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>
              <a:off x="2904480" y="6068520"/>
              <a:ext cx="11232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1356840" y="6098760"/>
              <a:ext cx="255240" cy="259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1120320" y="6117840"/>
              <a:ext cx="9324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627120" y="6049440"/>
              <a:ext cx="388440" cy="327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20AAD-48A9-4BB0-B9F9-16A86D066E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3E3A2-07AF-499D-831B-86E72F0BFE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6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6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8F979-9C63-4880-AEA9-66447ADC15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ftr" idx="6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6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69D31-70A6-4A8B-B93E-6BDED85BA5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ftr" idx="6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6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76688-0D5E-4245-AD9D-6E998B71F3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ftr" idx="6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7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81AAA-BC4B-45F1-9B14-D52A56BEEE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7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91213-943D-424A-9665-6EA308974F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ftr" idx="7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B9220-785C-4CA2-9F88-7B2942AB82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E05FA-4377-4EA0-9ACB-994649F588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D9C42-D41F-4F7C-A9A2-DEE32CF3AB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C8BFB-EB09-4DEF-8337-9A29D9DF75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B0156-68F8-49DC-AEAF-13B75491A7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6BEEC-2D46-4B11-83E3-9A85B9621C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061EF-BF9E-49A5-8137-213E66EF64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Arial"/>
              </a:rPr>
              <a:t>Return To The Mo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70106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Beacon Navigation Feasibility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1295280" y="434340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Luis B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Joshua Eli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Jason F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Amitha Math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8" name="Picture 3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52320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All Terrain, Mobile Rover Practicality Proved on Moon and 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Radio Beacon-Based Navigation Is Practical on the M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Obstacle Detection/Avoidance Demonstrated in DARPA Compet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Autonomous, Semi-Autonomous Rover Operation Is Possible with Terrain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02060"/>
                </a:solidFill>
                <a:latin typeface="Arial"/>
              </a:rPr>
              <a:t>Project Management</a:t>
            </a:r>
            <a:br>
              <a:rPr sz="4000"/>
            </a:br>
            <a:r>
              <a:rPr b="0" lang="en-GB" sz="4000" spc="-1" strike="noStrike">
                <a:solidFill>
                  <a:srgbClr val="002060"/>
                </a:solidFill>
                <a:latin typeface="Arial"/>
              </a:rPr>
              <a:t> Due Da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6" name="Rectangle 2"/>
          <p:cNvSpPr/>
          <p:nvPr/>
        </p:nvSpPr>
        <p:spPr>
          <a:xfrm>
            <a:off x="0" y="2319480"/>
            <a:ext cx="9144000" cy="144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7" name="Group 3"/>
          <p:cNvGrpSpPr/>
          <p:nvPr/>
        </p:nvGrpSpPr>
        <p:grpSpPr>
          <a:xfrm>
            <a:off x="533520" y="2057400"/>
            <a:ext cx="8227440" cy="4113000"/>
            <a:chOff x="533520" y="2057400"/>
            <a:chExt cx="8227440" cy="4113000"/>
          </a:xfrm>
        </p:grpSpPr>
        <p:sp>
          <p:nvSpPr>
            <p:cNvPr id="1098" name="Rectangle 4"/>
            <p:cNvSpPr/>
            <p:nvPr/>
          </p:nvSpPr>
          <p:spPr>
            <a:xfrm>
              <a:off x="5876280" y="5485320"/>
              <a:ext cx="2883240" cy="68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YouTube Vide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arallax Foru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Rectangle 5"/>
            <p:cNvSpPr/>
            <p:nvPr/>
          </p:nvSpPr>
          <p:spPr>
            <a:xfrm>
              <a:off x="3283200" y="5485320"/>
              <a:ext cx="2592720" cy="6836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Continuo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Rectangle 6"/>
            <p:cNvSpPr/>
            <p:nvPr/>
          </p:nvSpPr>
          <p:spPr>
            <a:xfrm>
              <a:off x="533520" y="5485320"/>
              <a:ext cx="2749680" cy="68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ublic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Rectangle 7"/>
            <p:cNvSpPr/>
            <p:nvPr/>
          </p:nvSpPr>
          <p:spPr>
            <a:xfrm>
              <a:off x="5876280" y="4508280"/>
              <a:ext cx="2883240" cy="97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ower Point 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Word Docu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roject Workbo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Rectangle 8"/>
            <p:cNvSpPr/>
            <p:nvPr/>
          </p:nvSpPr>
          <p:spPr>
            <a:xfrm>
              <a:off x="3283200" y="4508280"/>
              <a:ext cx="2592720" cy="9770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29 JUL 200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Rectangle 9"/>
            <p:cNvSpPr/>
            <p:nvPr/>
          </p:nvSpPr>
          <p:spPr>
            <a:xfrm>
              <a:off x="533520" y="4508280"/>
              <a:ext cx="2749680" cy="97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Final 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Rectangle 10"/>
            <p:cNvSpPr/>
            <p:nvPr/>
          </p:nvSpPr>
          <p:spPr>
            <a:xfrm>
              <a:off x="5876280" y="3824280"/>
              <a:ext cx="2883240" cy="68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Robotic Requirements Dem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Rectangle 11"/>
            <p:cNvSpPr/>
            <p:nvPr/>
          </p:nvSpPr>
          <p:spPr>
            <a:xfrm>
              <a:off x="3283200" y="3824280"/>
              <a:ext cx="2592720" cy="6836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29 JUL 200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Rectangle 12"/>
            <p:cNvSpPr/>
            <p:nvPr/>
          </p:nvSpPr>
          <p:spPr>
            <a:xfrm>
              <a:off x="533520" y="3824280"/>
              <a:ext cx="2749680" cy="68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rototype Demonst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Rectangle 13"/>
            <p:cNvSpPr/>
            <p:nvPr/>
          </p:nvSpPr>
          <p:spPr>
            <a:xfrm>
              <a:off x="5876280" y="3134160"/>
              <a:ext cx="2883240" cy="68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ower Point 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Rectangle 14"/>
            <p:cNvSpPr/>
            <p:nvPr/>
          </p:nvSpPr>
          <p:spPr>
            <a:xfrm>
              <a:off x="3283200" y="3134160"/>
              <a:ext cx="2592720" cy="68832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1 JUL 200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Rectangle 15"/>
            <p:cNvSpPr/>
            <p:nvPr/>
          </p:nvSpPr>
          <p:spPr>
            <a:xfrm>
              <a:off x="533520" y="3134160"/>
              <a:ext cx="2749680" cy="68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Design 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Rectangle 16"/>
            <p:cNvSpPr/>
            <p:nvPr/>
          </p:nvSpPr>
          <p:spPr>
            <a:xfrm>
              <a:off x="5876280" y="2447640"/>
              <a:ext cx="2883240" cy="68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Power Point 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Word Docu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Rectangle 17"/>
            <p:cNvSpPr/>
            <p:nvPr/>
          </p:nvSpPr>
          <p:spPr>
            <a:xfrm>
              <a:off x="3283200" y="2447640"/>
              <a:ext cx="2592720" cy="68652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19 JUN 200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Rectangle 18"/>
            <p:cNvSpPr/>
            <p:nvPr/>
          </p:nvSpPr>
          <p:spPr>
            <a:xfrm>
              <a:off x="533520" y="2447640"/>
              <a:ext cx="2749680" cy="68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Feasibility Re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Rectangle 19"/>
            <p:cNvSpPr/>
            <p:nvPr/>
          </p:nvSpPr>
          <p:spPr>
            <a:xfrm>
              <a:off x="5876280" y="2057400"/>
              <a:ext cx="2883240" cy="390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Deliverab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Rectangle 20"/>
            <p:cNvSpPr/>
            <p:nvPr/>
          </p:nvSpPr>
          <p:spPr>
            <a:xfrm>
              <a:off x="3283200" y="2057400"/>
              <a:ext cx="2592720" cy="3902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463416"/>
                  </a:solidFill>
                  <a:latin typeface="Arial"/>
                  <a:ea typeface="Times New Roman"/>
                </a:rPr>
                <a:t>Due D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Rectangle 21"/>
            <p:cNvSpPr/>
            <p:nvPr/>
          </p:nvSpPr>
          <p:spPr>
            <a:xfrm>
              <a:off x="533520" y="2057400"/>
              <a:ext cx="2749680" cy="390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463416"/>
                  </a:solidFill>
                  <a:latin typeface="Arial"/>
                </a:rPr>
                <a:t>Tas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Line 22"/>
            <p:cNvSpPr/>
            <p:nvPr/>
          </p:nvSpPr>
          <p:spPr>
            <a:xfrm>
              <a:off x="533520" y="2057400"/>
              <a:ext cx="8226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Line 23"/>
            <p:cNvSpPr/>
            <p:nvPr/>
          </p:nvSpPr>
          <p:spPr>
            <a:xfrm>
              <a:off x="533520" y="6169320"/>
              <a:ext cx="8226360" cy="1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Line 24"/>
            <p:cNvSpPr/>
            <p:nvPr/>
          </p:nvSpPr>
          <p:spPr>
            <a:xfrm>
              <a:off x="533520" y="2057400"/>
              <a:ext cx="1080" cy="411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Line 25"/>
            <p:cNvSpPr/>
            <p:nvPr/>
          </p:nvSpPr>
          <p:spPr>
            <a:xfrm>
              <a:off x="8759880" y="2057400"/>
              <a:ext cx="1080" cy="411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Line 26"/>
            <p:cNvSpPr/>
            <p:nvPr/>
          </p:nvSpPr>
          <p:spPr>
            <a:xfrm>
              <a:off x="533520" y="2447640"/>
              <a:ext cx="8226360" cy="1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Line 27"/>
            <p:cNvSpPr/>
            <p:nvPr/>
          </p:nvSpPr>
          <p:spPr>
            <a:xfrm>
              <a:off x="3283200" y="2057400"/>
              <a:ext cx="1080" cy="411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28"/>
            <p:cNvSpPr/>
            <p:nvPr/>
          </p:nvSpPr>
          <p:spPr>
            <a:xfrm>
              <a:off x="5876280" y="2057400"/>
              <a:ext cx="1440" cy="411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29"/>
            <p:cNvSpPr/>
            <p:nvPr/>
          </p:nvSpPr>
          <p:spPr>
            <a:xfrm>
              <a:off x="533520" y="3134160"/>
              <a:ext cx="8226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Line 30"/>
            <p:cNvSpPr/>
            <p:nvPr/>
          </p:nvSpPr>
          <p:spPr>
            <a:xfrm>
              <a:off x="533520" y="3824280"/>
              <a:ext cx="8226360" cy="1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Line 31"/>
            <p:cNvSpPr/>
            <p:nvPr/>
          </p:nvSpPr>
          <p:spPr>
            <a:xfrm>
              <a:off x="533520" y="4508280"/>
              <a:ext cx="8226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Line 32"/>
            <p:cNvSpPr/>
            <p:nvPr/>
          </p:nvSpPr>
          <p:spPr>
            <a:xfrm>
              <a:off x="533520" y="5485320"/>
              <a:ext cx="8226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8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0" name="TextBox 2"/>
          <p:cNvSpPr/>
          <p:nvPr/>
        </p:nvSpPr>
        <p:spPr>
          <a:xfrm>
            <a:off x="2073960" y="1905120"/>
            <a:ext cx="42418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Project Objectives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Lunar Environment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Navigation Beacons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Rover Design Concept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10 Week Project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Establish Feasibility of a Beacon-Based Navigation System for an Autonomous Lunar Rover</a:t>
            </a:r>
            <a:br>
              <a:rPr sz="2400"/>
            </a:b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Demonstrate Beacon Navigation with an Outdoor, Mobile Ro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3" name="Picture 10" descr=""/>
          <p:cNvPicPr/>
          <p:nvPr/>
        </p:nvPicPr>
        <p:blipFill>
          <a:blip r:embed="rId1"/>
          <a:stretch/>
        </p:blipFill>
        <p:spPr>
          <a:xfrm>
            <a:off x="380880" y="4022640"/>
            <a:ext cx="3353040" cy="2684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74" name="Picture 9" descr=""/>
          <p:cNvPicPr/>
          <p:nvPr/>
        </p:nvPicPr>
        <p:blipFill>
          <a:blip r:embed="rId2"/>
          <a:stretch/>
        </p:blipFill>
        <p:spPr>
          <a:xfrm>
            <a:off x="6858000" y="4019400"/>
            <a:ext cx="189540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Project Objec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Beacon 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Practic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Rover Navigation 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Test Rover Mobility Using Remot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Way Point Navigation with Beacon Derived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plus Around Mapped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plus Around Unknown Obsta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plus Dead Reckon Upon Beacon Fail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Lunar Enviro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Lunar Terrain Is Highly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Avoid or Navigate Around Known High Hazard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Develop High Mobility, Robust Ro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Negligible Atmosphere (trillionth of Earth’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Rover and Beacons Need Protection from Micrometeorite Strik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Sonar Sensors Imprac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Lunar Magnetism Is Negligi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Compasses can not be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Solar Wind and F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Electronics need to be shielded form high energy p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Lunar Temperature Varies F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Limit rover time of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Navigation Beac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1066680" y="11426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rilateration – determine position based on 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distances from known beacons (e.g. G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riangulation – determine position based on 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angles to known bea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Omnidirectional:  requires more 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otating Transmitter-Receiver, Stationary Reflectors: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  usually Laser with retrorefl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otating Transmitter, Stationary Receivers: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  usually Laser with transponder rece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Omnidire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High Visibility: easy to see against back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o Moving Parts: high main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Beacon Cover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Lunar Beacon Cover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How much area can a beacon cover on the mo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Horizon Distance Proportional to Square Root </a:t>
            </a:r>
            <a:br>
              <a:rPr sz="2400"/>
            </a:b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of  Beacon 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Approximate Beacon Coverage: 11*height(m), km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Beacon 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High on a hill would be b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Minimum of 3 beacons for triangulation or trilat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Placement of Bea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Area of exploration des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Type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Physical terrain affects number and placement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Radio Beac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1295280" y="1371600"/>
            <a:ext cx="7391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Low noise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Not affected by sunlit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No moving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mnidire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Proven technique, e.g. LO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Provide rover localization by trila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5" name="Picture 5" descr=""/>
          <p:cNvPicPr/>
          <p:nvPr/>
        </p:nvPicPr>
        <p:blipFill>
          <a:blip r:embed="rId1"/>
          <a:stretch/>
        </p:blipFill>
        <p:spPr>
          <a:xfrm>
            <a:off x="2895480" y="4419720"/>
            <a:ext cx="3200400" cy="24001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86" name="Picture 9" descr=""/>
          <p:cNvPicPr/>
          <p:nvPr/>
        </p:nvPicPr>
        <p:blipFill>
          <a:blip r:embed="rId2"/>
          <a:stretch/>
        </p:blipFill>
        <p:spPr>
          <a:xfrm>
            <a:off x="0" y="2590920"/>
            <a:ext cx="928800" cy="13906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9" descr=""/>
          <p:cNvPicPr/>
          <p:nvPr/>
        </p:nvPicPr>
        <p:blipFill>
          <a:blip r:embed="rId3"/>
          <a:stretch/>
        </p:blipFill>
        <p:spPr>
          <a:xfrm>
            <a:off x="0" y="5467320"/>
            <a:ext cx="928800" cy="13906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9" descr=""/>
          <p:cNvPicPr/>
          <p:nvPr/>
        </p:nvPicPr>
        <p:blipFill>
          <a:blip r:embed="rId4"/>
          <a:stretch/>
        </p:blipFill>
        <p:spPr>
          <a:xfrm>
            <a:off x="8215200" y="5467320"/>
            <a:ext cx="928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rial"/>
              </a:rPr>
              <a:t>Rover Design Concep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Robust, Outdoor Four Wheel Drive Ro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Accelerometer for Slope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Wheel Encoders and Gyroscope for 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    Dead Reck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Radio Beacon Loc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Video Camera for Remote 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   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LADAR for Obstacle 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  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Picture 4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3124440" cy="312408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4"/>
          <p:cNvSpPr/>
          <p:nvPr/>
        </p:nvSpPr>
        <p:spPr>
          <a:xfrm>
            <a:off x="6409080" y="3429000"/>
            <a:ext cx="20613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Parall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QuadR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CE</dc:creator>
  <dc:description/>
  <dc:language>en-US</dc:language>
  <cp:lastModifiedBy>ECE</cp:lastModifiedBy>
  <dcterms:modified xsi:type="dcterms:W3CDTF">2008-07-01T13:32:17Z</dcterms:modified>
  <cp:revision>49</cp:revision>
  <dc:subject/>
  <dc:title>Return To The Moon</dc:title>
</cp:coreProperties>
</file>