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DA3-F81F-4F96-8130-464BB8D3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4905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84E-A578-42E1-BDF9-376AF6FD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320-DAB7-40F5-A0B4-B56A25D2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3D3-88F8-4832-BEF3-C45C72EA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1AD11-AF96-49B3-BB19-6D614BAE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D012A-CEDF-4741-BB29-FC96D94F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3989D-4084-444F-8995-1196CCDA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5F526-F7C3-42AC-88E4-A7AEA23D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D0E99-302B-4FD5-90F4-B763ACB2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90C63-4E16-418C-B26D-2BD1DBC9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8E81D-1914-4DF4-BB7E-816A2B7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C9E-5445-4C3C-93D7-6AF0C215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30EF7-38E7-4EBF-8B37-EF8ECFB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540E8-6876-43A7-87E9-5708B24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4905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ACD79-429A-4D73-8941-12669003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09D10-E396-430B-A5A4-3519E922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12864-86A3-4865-A83C-F638818E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5463-5A61-4334-B8BE-5C7C77E8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05B-AD8B-4914-8F4A-2F8E87A3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A4F-1A4A-418D-9DFB-39420B34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5F0-0F30-47C6-A868-DEEB52A3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AEE-B279-4601-BC51-4E5F152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F51-3836-4EAC-895F-61C3588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CFB-765D-423E-AFEE-AB171C40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56200"/>
            <a:chOff x="0" y="0"/>
            <a:chExt cx="9142560" cy="6856200"/>
          </a:xfrm>
        </p:grpSpPr>
        <p:sp>
          <p:nvSpPr>
            <p:cNvPr id="1" name="Freeform 2"/>
            <p:cNvSpPr/>
            <p:nvPr/>
          </p:nvSpPr>
          <p:spPr>
            <a:xfrm>
              <a:off x="0" y="4875840"/>
              <a:ext cx="9142560" cy="1980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42560" cy="487584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6019920"/>
            <a:ext cx="7846560" cy="855360"/>
            <a:chOff x="0" y="6019920"/>
            <a:chExt cx="7846560" cy="855360"/>
          </a:xfrm>
        </p:grpSpPr>
        <p:sp>
          <p:nvSpPr>
            <p:cNvPr id="5" name="Freeform 6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7"/>
            <p:cNvGrpSpPr/>
            <p:nvPr/>
          </p:nvGrpSpPr>
          <p:grpSpPr>
            <a:xfrm>
              <a:off x="3946680" y="6019920"/>
              <a:ext cx="3899880" cy="855360"/>
              <a:chOff x="3946680" y="6019920"/>
              <a:chExt cx="3899880" cy="85536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6266520" y="6030720"/>
                <a:ext cx="1580040" cy="8445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4249440" y="6019920"/>
                <a:ext cx="294840" cy="6260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4809240" y="6179760"/>
                <a:ext cx="599760" cy="429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758200" y="6136920"/>
                <a:ext cx="245880" cy="117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3946680" y="6125760"/>
                <a:ext cx="66240" cy="1281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14" name="Freeform 15"/>
            <p:cNvSpPr/>
            <p:nvPr/>
          </p:nvSpPr>
          <p:spPr>
            <a:xfrm>
              <a:off x="1898280" y="6021360"/>
              <a:ext cx="579240" cy="4608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3083760" y="6078240"/>
              <a:ext cx="3226320" cy="790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904480" y="6068520"/>
              <a:ext cx="11232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1356840" y="6098760"/>
              <a:ext cx="255240" cy="259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1120320" y="6117840"/>
              <a:ext cx="9324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627120" y="6049440"/>
              <a:ext cx="388440" cy="327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0972F-C35D-4194-BEFE-5FC44243F1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-6480" y="20520"/>
            <a:ext cx="9142560" cy="6856200"/>
            <a:chOff x="-6480" y="20520"/>
            <a:chExt cx="9142560" cy="6856200"/>
          </a:xfrm>
        </p:grpSpPr>
        <p:sp>
          <p:nvSpPr>
            <p:cNvPr id="62" name="Freeform 2"/>
            <p:cNvSpPr/>
            <p:nvPr/>
          </p:nvSpPr>
          <p:spPr>
            <a:xfrm>
              <a:off x="-6480" y="4896360"/>
              <a:ext cx="9142560" cy="1980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3"/>
            <p:cNvSpPr/>
            <p:nvPr/>
          </p:nvSpPr>
          <p:spPr>
            <a:xfrm>
              <a:off x="-6480" y="20520"/>
              <a:ext cx="9142560" cy="487584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4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-1440" y="6033960"/>
            <a:ext cx="7843320" cy="849600"/>
            <a:chOff x="-1440" y="6033960"/>
            <a:chExt cx="7843320" cy="849600"/>
          </a:xfrm>
        </p:grpSpPr>
        <p:sp>
          <p:nvSpPr>
            <p:cNvPr id="66" name="Freeform 6"/>
            <p:cNvSpPr/>
            <p:nvPr/>
          </p:nvSpPr>
          <p:spPr>
            <a:xfrm>
              <a:off x="2360520" y="6033960"/>
              <a:ext cx="5143680" cy="849600"/>
            </a:xfrm>
            <a:prstGeom prst="pie">
              <a:avLst/>
            </a:pr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7"/>
            <p:cNvGrpSpPr/>
            <p:nvPr/>
          </p:nvGrpSpPr>
          <p:grpSpPr>
            <a:xfrm>
              <a:off x="3944880" y="6033960"/>
              <a:ext cx="3897000" cy="847800"/>
              <a:chOff x="3944880" y="6033960"/>
              <a:chExt cx="3897000" cy="847800"/>
            </a:xfrm>
          </p:grpSpPr>
          <p:sp>
            <p:nvSpPr>
              <p:cNvPr id="68" name="Freeform 8"/>
              <p:cNvSpPr/>
              <p:nvPr/>
            </p:nvSpPr>
            <p:spPr>
              <a:xfrm>
                <a:off x="6264720" y="6044760"/>
                <a:ext cx="1577160" cy="837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9"/>
              <p:cNvSpPr/>
              <p:nvPr/>
            </p:nvSpPr>
            <p:spPr>
              <a:xfrm>
                <a:off x="4247640" y="6033960"/>
                <a:ext cx="295200" cy="6249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808160" y="6193800"/>
                <a:ext cx="599760" cy="4284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1"/>
              <p:cNvSpPr/>
              <p:nvPr/>
            </p:nvSpPr>
            <p:spPr>
              <a:xfrm>
                <a:off x="5757120" y="6150960"/>
                <a:ext cx="245880" cy="1166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3944880" y="6139800"/>
                <a:ext cx="66240" cy="1278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3"/>
            <p:cNvSpPr/>
            <p:nvPr/>
          </p:nvSpPr>
          <p:spPr>
            <a:xfrm>
              <a:off x="-1440" y="6033960"/>
              <a:ext cx="6311880" cy="848160"/>
            </a:xfrm>
            <a:prstGeom prst="pie">
              <a:avLst/>
            </a:pr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75" name="Freeform 15"/>
            <p:cNvSpPr/>
            <p:nvPr/>
          </p:nvSpPr>
          <p:spPr>
            <a:xfrm>
              <a:off x="1898280" y="6021360"/>
              <a:ext cx="579240" cy="4608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3083760" y="6078240"/>
              <a:ext cx="3226320" cy="790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2904480" y="6068520"/>
              <a:ext cx="11232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1356840" y="6098760"/>
              <a:ext cx="255240" cy="259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1120320" y="6117840"/>
              <a:ext cx="9324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627120" y="6049440"/>
              <a:ext cx="388440" cy="327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3464E-C2FE-443B-B3AE-6AA555E83F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81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5400" spc="-1" strike="noStrike">
                <a:solidFill>
                  <a:srgbClr val="e3e3ff"/>
                </a:solidFill>
                <a:latin typeface="Arial"/>
              </a:rPr>
              <a:t>Return To The Mo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9528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Final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ugust 4,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543840" y="3381480"/>
            <a:ext cx="20689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Luis B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Joshua Eli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Jason F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Amitha Math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048120" y="4724280"/>
            <a:ext cx="2971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n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r. Yuri Shtess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r. John Picciri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S_Banner.jpg"/>
          <p:cNvPicPr/>
          <p:nvPr/>
        </p:nvPicPr>
        <p:blipFill>
          <a:blip r:embed="rId1"/>
          <a:stretch/>
        </p:blipFill>
        <p:spPr>
          <a:xfrm>
            <a:off x="2514600" y="304920"/>
            <a:ext cx="408924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arallax Propeller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106668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Microcontroller Featur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3.3V input voltag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8 processors (cogs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32 bit architectur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Clock speed up to 80 MHz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32 general purpose I/O pin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32KB RAM / 32KB RO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40mA per I/O pin max, 25mA recommended, 300mA chip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Supports Assembly and Spi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programming languag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5789160" y="3429000"/>
            <a:ext cx="2742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Propeller Pin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S_Propeller Chip.jpg"/>
          <p:cNvPicPr/>
          <p:nvPr/>
        </p:nvPicPr>
        <p:blipFill>
          <a:blip r:embed="rId1"/>
          <a:stretch/>
        </p:blipFill>
        <p:spPr>
          <a:xfrm>
            <a:off x="6019920" y="1066680"/>
            <a:ext cx="238104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arallax Propeller Block Diagram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pic>
        <p:nvPicPr>
          <p:cNvPr id="174" name="Picture 3" descr="S_Cog Layout.jpg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Remote Control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C Transmitt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pecs: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7 Channel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upply voltage: 9.6V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urrent drain: 170mA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Frequency: 2.4GHz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ontrols brakes, thrott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nd hydraulic solenoids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Kill control capability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114800" y="990720"/>
            <a:ext cx="5181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C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Spec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Supply voltage: 5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Current drain: 80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7 Cha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Controls 3 servo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Left brake, right brake, thrott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Programmable signal loss oper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Maintain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Default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6" descr="S_Transmitter.jpg"/>
          <p:cNvPicPr/>
          <p:nvPr/>
        </p:nvPicPr>
        <p:blipFill>
          <a:blip r:embed="rId1"/>
          <a:stretch/>
        </p:blipFill>
        <p:spPr>
          <a:xfrm>
            <a:off x="990720" y="4495680"/>
            <a:ext cx="231444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S_Receiver.jpg"/>
          <p:cNvPicPr/>
          <p:nvPr/>
        </p:nvPicPr>
        <p:blipFill>
          <a:blip r:embed="rId2"/>
          <a:stretch/>
        </p:blipFill>
        <p:spPr>
          <a:xfrm>
            <a:off x="5867280" y="4648320"/>
            <a:ext cx="20005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C Software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cesses signals from RC receiv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trols left/right brake and throttl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trols solenoid valv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esting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ow fast should the robot go on the autonomous mode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at types of terrains can the robot navigate safely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at type of fuzzy logic control is appropriate for the robot’s navigation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afety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C controller can function as a kill switch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Remote Control Objective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Radio Beacon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Why radio?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Relatively low power consumpt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Great area of coverag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Omni-directional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Better for mobile robotic us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No moving par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Proven technolog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Moon is radio quie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64720" y="5867280"/>
            <a:ext cx="378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lateration Position Determ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S_Trilateration.jpg"/>
          <p:cNvPicPr/>
          <p:nvPr/>
        </p:nvPicPr>
        <p:blipFill>
          <a:blip r:embed="rId1"/>
          <a:stretch/>
        </p:blipFill>
        <p:spPr>
          <a:xfrm>
            <a:off x="5657760" y="2438280"/>
            <a:ext cx="318132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S_Radio Beacon.jpg"/>
          <p:cNvPicPr/>
          <p:nvPr/>
        </p:nvPicPr>
        <p:blipFill>
          <a:blip r:embed="rId1"/>
          <a:stretch/>
        </p:blipFill>
        <p:spPr>
          <a:xfrm>
            <a:off x="5715000" y="2133720"/>
            <a:ext cx="2495520" cy="2627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Ultra Wideband Radio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Time Domain PulsON 210 UWB Radio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Operating Frequency: 4.7 GHz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Power: 7.5V, ~1A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Power Consumption: 6.5 W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Range of Operation: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man Old Style"/>
              </a:rPr>
              <a:t>Configurable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man Old Style"/>
              </a:rPr>
              <a:t>Max 1-2 km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UDP Ethernet interfa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Configuration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Range: 100 meters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- Position accuracy: ~ 1 foo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Four field radios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- Update rate: ~ 8 Hz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One rover radio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5791320" y="2133720"/>
            <a:ext cx="1473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 Bea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Radio Beacon System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atic radio beacon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irtual map is composed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f four radio beacon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bile radio beacon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ceives information fro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ic beacon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pNIC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NC28J60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I interface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2" name="Picture 5" descr="S_PropNIC.jpg"/>
          <p:cNvPicPr/>
          <p:nvPr/>
        </p:nvPicPr>
        <p:blipFill>
          <a:blip r:embed="rId1"/>
          <a:stretch/>
        </p:blipFill>
        <p:spPr>
          <a:xfrm>
            <a:off x="5562720" y="3886200"/>
            <a:ext cx="3057480" cy="2133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S_Radio Beacon 2.jpg"/>
          <p:cNvPicPr/>
          <p:nvPr/>
        </p:nvPicPr>
        <p:blipFill>
          <a:blip r:embed="rId2"/>
          <a:stretch/>
        </p:blipFill>
        <p:spPr>
          <a:xfrm>
            <a:off x="5562720" y="1371600"/>
            <a:ext cx="3014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Obstacle Avoidance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43000"/>
            <a:ext cx="50292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rpose 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tect unknown obstacl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ere is the object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ow far away is the object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termine the rate of change of the distance to the object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ind the safest path for the robot to follow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6" name="Picture 5" descr="S_Moon Rock.jpg"/>
          <p:cNvPicPr/>
          <p:nvPr/>
        </p:nvPicPr>
        <p:blipFill>
          <a:blip r:embed="rId1"/>
          <a:stretch/>
        </p:blipFill>
        <p:spPr>
          <a:xfrm>
            <a:off x="5486400" y="1600200"/>
            <a:ext cx="3400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SICK LADAR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pply voltage: 24V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x power: 30W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perating temp: 0ºC to +50ºC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rial com: 9600 - 56k baud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can angle: 180º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gular resolution: 0.5º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2D Vis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solution: 70mm out to 50m rang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ne scan every 80ms (12.5 Hz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9" name="Picture 4" descr="S_SICK.jpg"/>
          <p:cNvPicPr/>
          <p:nvPr/>
        </p:nvPicPr>
        <p:blipFill>
          <a:blip r:embed="rId1"/>
          <a:stretch/>
        </p:blipFill>
        <p:spPr>
          <a:xfrm>
            <a:off x="6296040" y="1798560"/>
            <a:ext cx="261936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LADAR-Robot System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334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sition relative to the floor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stance of ~2ft from the floor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tects range of the closest object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robot turns left/right or stops depending on the distance from an object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erial board interface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02" name="Picture 6" descr="S_Rover Front.jpg"/>
          <p:cNvPicPr/>
          <p:nvPr/>
        </p:nvPicPr>
        <p:blipFill>
          <a:blip r:embed="rId1"/>
          <a:stretch/>
        </p:blipFill>
        <p:spPr>
          <a:xfrm>
            <a:off x="5815080" y="1523880"/>
            <a:ext cx="307008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_RS232.jpg"/>
          <p:cNvPicPr/>
          <p:nvPr/>
        </p:nvPicPr>
        <p:blipFill>
          <a:blip r:embed="rId2"/>
          <a:stretch/>
        </p:blipFill>
        <p:spPr>
          <a:xfrm>
            <a:off x="5791320" y="4191120"/>
            <a:ext cx="3076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Outline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6096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sign Approach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unctional Part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peller Microcontroller Interface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inal Plan of Action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2" descr="S_Battery Box.jpg"/>
          <p:cNvPicPr/>
          <p:nvPr/>
        </p:nvPicPr>
        <p:blipFill>
          <a:blip r:embed="rId1"/>
          <a:stretch/>
        </p:blipFill>
        <p:spPr>
          <a:xfrm>
            <a:off x="4343400" y="3581280"/>
            <a:ext cx="4286160" cy="30704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Battery Box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attery Box includ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6-pin Charging Connecto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-pin Power Connecto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3-SPDT Relay Switch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wo 12-volt batteri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4V outpu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2V outpu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uses (8 Amperes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-216000"/>
            <a:ext cx="1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1"/>
          <p:cNvCxnSpPr/>
          <p:nvPr/>
        </p:nvCxnSpPr>
        <p:spPr>
          <a:xfrm flipH="1" flipV="1">
            <a:off x="8001000" y="1904400"/>
            <a:ext cx="76680" cy="32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9" name="Straight Connector 13"/>
          <p:cNvSpPr/>
          <p:nvPr/>
        </p:nvSpPr>
        <p:spPr>
          <a:xfrm flipV="1">
            <a:off x="7695360" y="259056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ounded Rectangle 14"/>
          <p:cNvSpPr/>
          <p:nvPr/>
        </p:nvSpPr>
        <p:spPr>
          <a:xfrm>
            <a:off x="7086600" y="160020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Volt batt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1" name="Straight Arrow Connector 16"/>
          <p:cNvCxnSpPr/>
          <p:nvPr/>
        </p:nvCxnSpPr>
        <p:spPr>
          <a:xfrm flipH="1" flipV="1">
            <a:off x="3276360" y="5409360"/>
            <a:ext cx="1296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Rounded Rectangle 17"/>
          <p:cNvSpPr/>
          <p:nvPr/>
        </p:nvSpPr>
        <p:spPr>
          <a:xfrm>
            <a:off x="2438280" y="5257800"/>
            <a:ext cx="838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y Swi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3" name="Straight Arrow Connector 19"/>
          <p:cNvCxnSpPr/>
          <p:nvPr/>
        </p:nvCxnSpPr>
        <p:spPr>
          <a:xfrm flipV="1">
            <a:off x="5485320" y="2437560"/>
            <a:ext cx="153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4" name="Straight Connector 21"/>
          <p:cNvSpPr/>
          <p:nvPr/>
        </p:nvSpPr>
        <p:spPr>
          <a:xfrm flipV="1">
            <a:off x="5333400" y="335232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ounded Rectangle 23"/>
          <p:cNvSpPr/>
          <p:nvPr/>
        </p:nvSpPr>
        <p:spPr>
          <a:xfrm>
            <a:off x="5257800" y="1981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Straight Arrow Connector 25"/>
          <p:cNvCxnSpPr/>
          <p:nvPr/>
        </p:nvCxnSpPr>
        <p:spPr>
          <a:xfrm flipH="1" flipV="1">
            <a:off x="3657240" y="632376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ounded Rectangle 27"/>
          <p:cNvSpPr/>
          <p:nvPr/>
        </p:nvSpPr>
        <p:spPr>
          <a:xfrm>
            <a:off x="2438280" y="61722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Str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8" name="Straight Arrow Connector 29"/>
          <p:cNvCxnSpPr/>
          <p:nvPr/>
        </p:nvCxnSpPr>
        <p:spPr>
          <a:xfrm flipV="1">
            <a:off x="5028840" y="2590560"/>
            <a:ext cx="167724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Rounded Rectangle 30"/>
          <p:cNvSpPr/>
          <p:nvPr/>
        </p:nvSpPr>
        <p:spPr>
          <a:xfrm>
            <a:off x="6705720" y="2438280"/>
            <a:ext cx="12189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in Charging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0" name="Straight Arrow Connector 32"/>
          <p:cNvCxnSpPr/>
          <p:nvPr/>
        </p:nvCxnSpPr>
        <p:spPr>
          <a:xfrm flipH="1">
            <a:off x="4038120" y="4266000"/>
            <a:ext cx="991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Rounded Rectangle 33"/>
          <p:cNvSpPr/>
          <p:nvPr/>
        </p:nvSpPr>
        <p:spPr>
          <a:xfrm>
            <a:off x="2971800" y="45720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Pin Power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Additional Power Supply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144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3400" indent="-2934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eatures of LM2576 series (DC-DC Converter)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7V – 40V input voltag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M2576T-12, -5, adj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982800" indent="-19656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4V input; 12V outpu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982800" indent="-19656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2V input; 5V and 3.3V outpu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uaranteed 3A output current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quires only 4 external component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igh efficiency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293400" indent="-2934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 heat sink required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implifies the desig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ses readily available standard inductors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24" name="Picture 5" descr="S_DC-DC Converter.jpg"/>
          <p:cNvPicPr/>
          <p:nvPr/>
        </p:nvPicPr>
        <p:blipFill>
          <a:blip r:embed="rId1"/>
          <a:stretch/>
        </p:blipFill>
        <p:spPr>
          <a:xfrm>
            <a:off x="6324480" y="1600200"/>
            <a:ext cx="2171880" cy="1905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S_S_2576.jpg"/>
          <p:cNvPicPr/>
          <p:nvPr/>
        </p:nvPicPr>
        <p:blipFill>
          <a:blip r:embed="rId2"/>
          <a:stretch/>
        </p:blipFill>
        <p:spPr>
          <a:xfrm>
            <a:off x="5638680" y="441972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ower Supply Schematic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8" descr="S_Power Supply Schematic.jpg"/>
          <p:cNvPicPr/>
          <p:nvPr/>
        </p:nvPicPr>
        <p:blipFill>
          <a:blip r:embed="rId1"/>
          <a:stretch/>
        </p:blipFill>
        <p:spPr>
          <a:xfrm>
            <a:off x="457200" y="1752480"/>
            <a:ext cx="3365640" cy="3505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S_Power Supply Layout.jpg"/>
          <p:cNvPicPr/>
          <p:nvPr/>
        </p:nvPicPr>
        <p:blipFill>
          <a:blip r:embed="rId2"/>
          <a:stretch/>
        </p:blipFill>
        <p:spPr>
          <a:xfrm>
            <a:off x="4572000" y="1752480"/>
            <a:ext cx="3971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Software Implementation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457200" y="5791320"/>
            <a:ext cx="822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3e3ff"/>
                </a:solidFill>
                <a:latin typeface="Arial"/>
              </a:rPr>
              <a:t>Software Flow Diagram and Cog Representation</a:t>
            </a:r>
            <a:r>
              <a:rPr b="0" i="1" lang="en-US" sz="1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1032" descr="Untitled12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ropeller Interface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pic>
        <p:nvPicPr>
          <p:cNvPr id="235" name="Picture 27" descr="S_Prop Interface.jpg"/>
          <p:cNvPicPr/>
          <p:nvPr/>
        </p:nvPicPr>
        <p:blipFill>
          <a:blip r:embed="rId1"/>
          <a:stretch/>
        </p:blipFill>
        <p:spPr>
          <a:xfrm>
            <a:off x="2514600" y="1371600"/>
            <a:ext cx="434340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Final Plan of Action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terface robot to the radio beacon syste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nterface with UWB radio system to get position data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aypoint navigation with no obstacle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Write software to determine how to make the robot move to multiple waypoints in one virtual map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No obstacles in the wa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uzzy Traversability Control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JPL proposed algorithm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aypoint navigation with unknown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bstacle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nterface to LADAR sensor to detect any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unknown obstacles and avoid accordingly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38" name="Picture 6" descr="S_Beacon Stand.jpg"/>
          <p:cNvPicPr/>
          <p:nvPr/>
        </p:nvPicPr>
        <p:blipFill>
          <a:blip r:embed="rId1"/>
          <a:stretch/>
        </p:blipFill>
        <p:spPr>
          <a:xfrm>
            <a:off x="6562800" y="2895480"/>
            <a:ext cx="2066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9144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utonomous waypoint navigation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The robot can reach a determine goal position autonomously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The distance to be traveled is known by means of the radio beacons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mulated hazard avoidan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Known/unknown object avoidance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capability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Localization of the robo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n the plan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Position of the robot on the virtual map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is known relative to the radio beacons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eacons implementation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Beacon system navigation demonstrated to be a feasible intermediate solution while a Lunar Positioning System is under development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Result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pic>
        <p:nvPicPr>
          <p:cNvPr id="241" name="Picture 6" descr="S_Rover Waypoint.jpg"/>
          <p:cNvPicPr/>
          <p:nvPr/>
        </p:nvPicPr>
        <p:blipFill>
          <a:blip r:embed="rId1"/>
          <a:stretch/>
        </p:blipFill>
        <p:spPr>
          <a:xfrm>
            <a:off x="5638680" y="220968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_Rover Waypoint 2.jpg"/>
          <p:cNvPicPr/>
          <p:nvPr/>
        </p:nvPicPr>
        <p:blipFill>
          <a:blip r:embed="rId2"/>
          <a:stretch/>
        </p:blipFill>
        <p:spPr>
          <a:xfrm>
            <a:off x="6019920" y="485784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S_Rover Front.jpg"/>
          <p:cNvPicPr/>
          <p:nvPr/>
        </p:nvPicPr>
        <p:blipFill>
          <a:blip r:embed="rId3"/>
          <a:stretch/>
        </p:blipFill>
        <p:spPr>
          <a:xfrm>
            <a:off x="1066680" y="4800600"/>
            <a:ext cx="25718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Future Recommendation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obotic arm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mproves robot’s capabilit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verhaul certain sections of the robot’s chassi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Vibration problem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mplementation of dead reckoning.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Usage for loss of beacon signal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dd additional sensor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bstacle avoidan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aptop interfac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dditional computing powe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asier control of the robo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94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e3e3ff"/>
                </a:solidFill>
                <a:latin typeface="Tahoma"/>
              </a:rPr>
              <a:t>References</a:t>
            </a:r>
            <a:endParaRPr b="0" i="1" lang="en-US" sz="36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Propeller QuadRover Robot and Honda Engine Manual: Reference to the different systems and components of the rover.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0">
              <a:lnSpc>
                <a:spcPct val="7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H. Seraji: “Terrain-Based Robot Navigation Using Multi-Scale Traversability Indices”, 10th IEEE International Conference on Fuzzy Systems, pp. 1309 – 1314, 2001.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0">
              <a:lnSpc>
                <a:spcPct val="7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H. Seraji: “Traversability Index: A New Concept for Planetary Rovers”, Proceedings IEEE International Conference on Robotics &amp; Automation”, pp. 2006 – 2013, 1999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A. Howard, H. Seraji, E. Tunsel: “A Rule-Based Traversability Index for Mobile Robot Navigation”, Proceedings IEEE International Conference on Robotics &amp; Automation”, pp. 3067 – 3071, 2001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H. Seraji, A. Howard, E. Tunstel: “Safe Navigation on Hazardous Terrain”, Proceedings IEEE International Conference on Robotics &amp; Automation”, pp. 3084 – 3091, 2001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0">
              <a:lnSpc>
                <a:spcPct val="7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Questions &amp; Answer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pic>
        <p:nvPicPr>
          <p:cNvPr id="249" name="Picture 4" descr="Sponsors.png"/>
          <p:cNvPicPr/>
          <p:nvPr/>
        </p:nvPicPr>
        <p:blipFill>
          <a:blip r:embed="rId1"/>
          <a:stretch/>
        </p:blipFill>
        <p:spPr>
          <a:xfrm>
            <a:off x="457200" y="4495680"/>
            <a:ext cx="8313840" cy="1079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S_Banner.jpg"/>
          <p:cNvPicPr/>
          <p:nvPr/>
        </p:nvPicPr>
        <p:blipFill>
          <a:blip r:embed="rId2"/>
          <a:stretch/>
        </p:blipFill>
        <p:spPr>
          <a:xfrm>
            <a:off x="1905120" y="304920"/>
            <a:ext cx="541008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Background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bjective is autonomous lunar navigation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easibility Study suggests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adio beacons for localizat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aser system for obstacle avoidanc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l wheel drive rover for mobility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PL papers propose Fuzzy Control software architectur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Objective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Navigate using a remote control system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Test platform mobility, durability, and feature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Beacon waypoint navigation to different goal points in a virtual map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Beacon navigation with known obstacles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Beacon navigation with unknown obstacles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bility to dead reckon position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Design Approach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520" y="914400"/>
            <a:ext cx="8380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Remote Contro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Parallax R/C code and hardwar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Mobility testing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Emergency cut-off funct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Beacon navigation for rover localization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Ultra Wideband radio syste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Obstacle Detection/Avoidance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SICK LADA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Functional Parts Outline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ystem Components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arallax QuadRov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arallax Propeller Microcontroll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me Domain UWB Radio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ICK LADA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anic Butt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attery Box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dditional Power Suppl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C Syste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ftware implementat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5789160" y="5105520"/>
            <a:ext cx="285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QuadR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additional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S_QuadRover.jpg"/>
          <p:cNvPicPr/>
          <p:nvPr/>
        </p:nvPicPr>
        <p:blipFill>
          <a:blip r:embed="rId1"/>
          <a:stretch/>
        </p:blipFill>
        <p:spPr>
          <a:xfrm>
            <a:off x="6019920" y="2590920"/>
            <a:ext cx="27432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4" descr="S_Rover Parts ID 2.jpg"/>
          <p:cNvPicPr/>
          <p:nvPr/>
        </p:nvPicPr>
        <p:blipFill>
          <a:blip r:embed="rId1"/>
          <a:stretch/>
        </p:blipFill>
        <p:spPr>
          <a:xfrm>
            <a:off x="4648320" y="1905120"/>
            <a:ext cx="4373280" cy="32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S_Rover Parts ID 1.jpg"/>
          <p:cNvPicPr/>
          <p:nvPr/>
        </p:nvPicPr>
        <p:blipFill>
          <a:blip r:embed="rId2"/>
          <a:stretch/>
        </p:blipFill>
        <p:spPr>
          <a:xfrm>
            <a:off x="76320" y="1822320"/>
            <a:ext cx="4441680" cy="3283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Functional Part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838080" y="55627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bot’s front 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791320" y="55627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bot’s back 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Straight Arrow Connector 8"/>
          <p:cNvCxnSpPr/>
          <p:nvPr/>
        </p:nvCxnSpPr>
        <p:spPr>
          <a:xfrm flipV="1">
            <a:off x="2362320" y="1371240"/>
            <a:ext cx="3816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Rounded Rectangle 9"/>
          <p:cNvSpPr/>
          <p:nvPr/>
        </p:nvSpPr>
        <p:spPr>
          <a:xfrm>
            <a:off x="2743200" y="106668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ic But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Straight Arrow Connector 11"/>
          <p:cNvCxnSpPr/>
          <p:nvPr/>
        </p:nvCxnSpPr>
        <p:spPr>
          <a:xfrm flipV="1">
            <a:off x="2895120" y="2437560"/>
            <a:ext cx="7628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Rounded Rectangle 12"/>
          <p:cNvSpPr/>
          <p:nvPr/>
        </p:nvSpPr>
        <p:spPr>
          <a:xfrm>
            <a:off x="3581280" y="21337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Straight Arrow Connector 14"/>
          <p:cNvCxnSpPr>
            <a:endCxn id="149" idx="1"/>
          </p:cNvCxnSpPr>
          <p:nvPr/>
        </p:nvCxnSpPr>
        <p:spPr>
          <a:xfrm>
            <a:off x="2742840" y="3429000"/>
            <a:ext cx="762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Rounded Rectangle 15"/>
          <p:cNvSpPr/>
          <p:nvPr/>
        </p:nvSpPr>
        <p:spPr>
          <a:xfrm>
            <a:off x="3505320" y="3276720"/>
            <a:ext cx="76176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Bea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Straight Arrow Connector 17"/>
          <p:cNvCxnSpPr/>
          <p:nvPr/>
        </p:nvCxnSpPr>
        <p:spPr>
          <a:xfrm>
            <a:off x="2819520" y="40381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Rounded Rectangle 18"/>
          <p:cNvSpPr/>
          <p:nvPr/>
        </p:nvSpPr>
        <p:spPr>
          <a:xfrm>
            <a:off x="3657600" y="4343400"/>
            <a:ext cx="7621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Straight Arrow Connector 20"/>
          <p:cNvCxnSpPr/>
          <p:nvPr/>
        </p:nvCxnSpPr>
        <p:spPr>
          <a:xfrm flipH="1">
            <a:off x="914040" y="441972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Rounded Rectangle 21"/>
          <p:cNvSpPr/>
          <p:nvPr/>
        </p:nvSpPr>
        <p:spPr>
          <a:xfrm>
            <a:off x="0" y="48769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Supply Bo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4"/>
          <p:cNvCxnSpPr/>
          <p:nvPr/>
        </p:nvCxnSpPr>
        <p:spPr>
          <a:xfrm flipH="1">
            <a:off x="5409720" y="4494600"/>
            <a:ext cx="91512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Rounded Rectangle 26"/>
          <p:cNvSpPr/>
          <p:nvPr/>
        </p:nvSpPr>
        <p:spPr>
          <a:xfrm>
            <a:off x="4343400" y="518148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Supply Bo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Straight Arrow Connector 28"/>
          <p:cNvCxnSpPr/>
          <p:nvPr/>
        </p:nvCxnSpPr>
        <p:spPr>
          <a:xfrm flipV="1">
            <a:off x="7237800" y="1523520"/>
            <a:ext cx="30564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Rounded Rectangle 29"/>
          <p:cNvSpPr/>
          <p:nvPr/>
        </p:nvSpPr>
        <p:spPr>
          <a:xfrm>
            <a:off x="7238880" y="114300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 Bo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8" name="Straight Arrow Connector 31"/>
          <p:cNvCxnSpPr/>
          <p:nvPr/>
        </p:nvCxnSpPr>
        <p:spPr>
          <a:xfrm>
            <a:off x="8304840" y="4495320"/>
            <a:ext cx="22932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Rounded Rectangle 32"/>
          <p:cNvSpPr/>
          <p:nvPr/>
        </p:nvSpPr>
        <p:spPr>
          <a:xfrm>
            <a:off x="8001000" y="53341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bo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arallax QuadRover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52280" y="1066680"/>
            <a:ext cx="510552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QuadRover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Arial"/>
              </a:rPr>
              <a:t>4WD chas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Skid-steer drive t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Arial"/>
              </a:rPr>
              <a:t>Honda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Gas powered, 4-stro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4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Power and ener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4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den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4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Du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2.5 horse po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0.8 gal fuel t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Hydraulic dr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S_Rover Grass.jpg"/>
          <p:cNvPicPr/>
          <p:nvPr/>
        </p:nvPicPr>
        <p:blipFill>
          <a:blip r:embed="rId1"/>
          <a:stretch/>
        </p:blipFill>
        <p:spPr>
          <a:xfrm>
            <a:off x="4908600" y="2133720"/>
            <a:ext cx="37782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QuadRover Drive &amp; Electrical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1920" y="685800"/>
            <a:ext cx="52578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2360" indent="-2523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ydraulic Drive System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ydraulic pump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rives 2 independent motor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low-cutoff valv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low-reverse valv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252360" indent="-2523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lectrical System/Devic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mergency cutoff switch and panic butt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ree onboard 12V batteri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ulti-core microcontroll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rvo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rottl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ight brak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Left brak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wer supply box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341680" y="6404040"/>
            <a:ext cx="32072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over Electrical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634720" y="838080"/>
            <a:ext cx="32547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over Hydraulic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8" descr="S_Hydraulics.jpg"/>
          <p:cNvPicPr/>
          <p:nvPr/>
        </p:nvPicPr>
        <p:blipFill>
          <a:blip r:embed="rId1"/>
          <a:stretch/>
        </p:blipFill>
        <p:spPr>
          <a:xfrm>
            <a:off x="5543640" y="1219320"/>
            <a:ext cx="3381120" cy="2590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S_Hydraulic Valves ID.jpg"/>
          <p:cNvPicPr/>
          <p:nvPr/>
        </p:nvPicPr>
        <p:blipFill>
          <a:blip r:embed="rId2"/>
          <a:stretch/>
        </p:blipFill>
        <p:spPr>
          <a:xfrm>
            <a:off x="5481720" y="3886200"/>
            <a:ext cx="34527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CE</dc:creator>
  <dc:description/>
  <dc:language>en-US</dc:language>
  <cp:lastModifiedBy>jpiccirillo</cp:lastModifiedBy>
  <dcterms:modified xsi:type="dcterms:W3CDTF">2008-08-08T20:37:34Z</dcterms:modified>
  <cp:revision>215</cp:revision>
  <dc:subject/>
  <dc:title>Return To The Moon</dc:title>
</cp:coreProperties>
</file>