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414-B447-4DC7-B816-AF1E5CAC7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9B8D-C077-4715-B23D-7212CC1E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212C-4B4E-4E24-88C2-5A346F83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DC7C-9121-4C5A-9072-BE7D1A509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EC02-34E9-4C87-86BD-D4AE4542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840-245A-4062-A5DA-CD1A1B52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5459-C5EC-403D-930C-DD59CCFF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954-522A-4E24-8336-64829636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CABC-16D3-475D-B424-6C012DC5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F88-090B-41E0-A914-06BD993E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3D86-D3FE-44C4-AB68-FD98982D3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448A-6031-419B-B1C8-D5B1C1E5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4A35-4F20-4500-843E-D8D9A1ABFE92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TL8712(8188_8191_8192SU) USB Linux Driver Quick Installation Gu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oftware Pack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linux driver (source cod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 support linux kernel version 2.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712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ckage &amp; Platfor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00" y="1816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-Based Linux platform (i3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12 USB Linux driver supports Linux kernel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rom 2.6.18 ~ 2.6.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- TO: Setting up Linux enviro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Demonstration based on Linux Fedora 2.6.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Part 1: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make 8712 USB Linux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(1) step1: uncompress the “rtl8712_8188_8191_8192SU_usb_linux_v2.6.xxxx.2010xxxx.tar.gz” file. (in “driver” direc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tar zxvf</a:t>
            </a:r>
            <a:r>
              <a:rPr b="0" i="1" lang="zh-TW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rtl8712_8188_8191_8192SU_usb_linux_v2.6.0006.20100226.tar.g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make 8712 USB driver mod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3) step3: clean the operatio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./c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4) step4: insert 8712 USB mod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400" spc="-1" strike="noStrike">
                <a:solidFill>
                  <a:srgbClr val="000000"/>
                </a:solidFill>
                <a:latin typeface="Arial"/>
              </a:rPr>
              <a:t>insmod 8712u.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5) step5: enable wlan0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2800" spc="-1" strike="noStrike">
                <a:solidFill>
                  <a:srgbClr val="000000"/>
                </a:solidFill>
                <a:latin typeface="Arial"/>
              </a:rPr>
              <a:t>ifconfig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wlan0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6) step6: setup IP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fconfig wlan0 192.168.1.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Part 2: Site Survey &amp; connect to AP without 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step1: Site 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list wlan0 s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(2) step2: Connect to 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&gt; </a:t>
            </a:r>
            <a:r>
              <a:rPr b="0" i="1" lang="zh-TW" sz="3200" spc="-1" strike="noStrike">
                <a:solidFill>
                  <a:srgbClr val="000000"/>
                </a:solidFill>
                <a:latin typeface="Arial"/>
              </a:rPr>
              <a:t>iwconfig wlan0 essid “xx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s:  connect to AP using "Network Manager" GUI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) Network Manager is a utility attempts to make use of wireless networking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) please disable the “Network Manager” when using command-line method to connect to AP, because the “Network Manager” will conflict with the method of command l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6:25:06Z</dcterms:created>
  <dc:creator>TIGER-XP</dc:creator>
  <dc:description/>
  <dc:language>en-US</dc:language>
  <cp:lastModifiedBy>albert_wang</cp:lastModifiedBy>
  <dcterms:modified xsi:type="dcterms:W3CDTF">2010-02-26T08:11:27Z</dcterms:modified>
  <cp:revision>91</cp:revision>
  <dc:subject/>
  <dc:title>投影片 1</dc:title>
</cp:coreProperties>
</file>