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8.png" ContentType="image/png"/>
  <Override PartName="/ppt/media/image7.jpeg" ContentType="image/jpeg"/>
  <Override PartName="/ppt/media/image11.png" ContentType="image/png"/>
  <Override PartName="/ppt/media/image9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notesMasterIdLst>
    <p:notesMasterId r:id="rId18"/>
  </p:notes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notesMaster" Target="notesMasters/notesMaster1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move the slide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ractice Chinese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ersonal introductions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ank you for opportunity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01440" y="253800"/>
            <a:ext cx="11201400" cy="148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01440" y="1866960"/>
            <a:ext cx="11201400" cy="315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901440" y="5323320"/>
            <a:ext cx="11201400" cy="315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901440" y="253800"/>
            <a:ext cx="11201400" cy="148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901440" y="1866960"/>
            <a:ext cx="5466240" cy="661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6641280" y="1866960"/>
            <a:ext cx="5466240" cy="661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901440" y="253800"/>
            <a:ext cx="11201400" cy="148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901440" y="253800"/>
            <a:ext cx="11201400" cy="68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901440" y="253800"/>
            <a:ext cx="11201400" cy="148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901440" y="1866960"/>
            <a:ext cx="5466240" cy="315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641280" y="1866960"/>
            <a:ext cx="5466240" cy="661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901440" y="5323320"/>
            <a:ext cx="5466240" cy="315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901440" y="253800"/>
            <a:ext cx="11201400" cy="148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901440" y="1866960"/>
            <a:ext cx="5466240" cy="661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6641280" y="1866960"/>
            <a:ext cx="5466240" cy="315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641280" y="5323320"/>
            <a:ext cx="5466240" cy="315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901440" y="253800"/>
            <a:ext cx="11201400" cy="148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901440" y="1866960"/>
            <a:ext cx="5466240" cy="315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6641280" y="1866960"/>
            <a:ext cx="5466240" cy="315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901440" y="5323320"/>
            <a:ext cx="11201400" cy="315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901440" y="253800"/>
            <a:ext cx="11201400" cy="148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901440" y="1866960"/>
            <a:ext cx="11201400" cy="315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901440" y="5323320"/>
            <a:ext cx="11201400" cy="315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901440" y="253800"/>
            <a:ext cx="11201400" cy="148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901440" y="1866960"/>
            <a:ext cx="5466240" cy="315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6641280" y="1866960"/>
            <a:ext cx="5466240" cy="315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901440" y="5323320"/>
            <a:ext cx="5466240" cy="315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6641280" y="5323320"/>
            <a:ext cx="5466240" cy="315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901440" y="253800"/>
            <a:ext cx="11201400" cy="148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901440" y="1866960"/>
            <a:ext cx="3606480" cy="315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88640" y="1866960"/>
            <a:ext cx="3606480" cy="315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8475840" y="1866960"/>
            <a:ext cx="3606480" cy="315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901440" y="5323320"/>
            <a:ext cx="3606480" cy="315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4688640" y="5323320"/>
            <a:ext cx="3606480" cy="315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8475840" y="5323320"/>
            <a:ext cx="3606480" cy="315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01440" y="253800"/>
            <a:ext cx="11201400" cy="148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01440" y="1866960"/>
            <a:ext cx="5466240" cy="315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641280" y="1866960"/>
            <a:ext cx="5466240" cy="315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01440" y="5323320"/>
            <a:ext cx="5466240" cy="315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6641280" y="5323320"/>
            <a:ext cx="5466240" cy="315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01440" y="253800"/>
            <a:ext cx="11201400" cy="148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901440" y="1866960"/>
            <a:ext cx="11201400" cy="661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01440" y="253800"/>
            <a:ext cx="11201400" cy="148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01440" y="1866960"/>
            <a:ext cx="11201400" cy="661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901440" y="253800"/>
            <a:ext cx="11201400" cy="148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901440" y="1866960"/>
            <a:ext cx="5466240" cy="661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6641280" y="1866960"/>
            <a:ext cx="5466240" cy="661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901440" y="253800"/>
            <a:ext cx="11201400" cy="148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901440" y="253800"/>
            <a:ext cx="11201400" cy="68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901440" y="253800"/>
            <a:ext cx="11201400" cy="148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01440" y="1866960"/>
            <a:ext cx="5466240" cy="315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6641280" y="1866960"/>
            <a:ext cx="5466240" cy="661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901440" y="5323320"/>
            <a:ext cx="5466240" cy="315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901440" y="253800"/>
            <a:ext cx="11201400" cy="148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901440" y="1866960"/>
            <a:ext cx="5466240" cy="661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6641280" y="1866960"/>
            <a:ext cx="5466240" cy="315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641280" y="5323320"/>
            <a:ext cx="5466240" cy="315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01440" y="253800"/>
            <a:ext cx="11201400" cy="148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01440" y="1866960"/>
            <a:ext cx="5466240" cy="315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6641280" y="1866960"/>
            <a:ext cx="5466240" cy="315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01440" y="5323320"/>
            <a:ext cx="11201400" cy="315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901440" y="253800"/>
            <a:ext cx="11201400" cy="148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901440" y="1866960"/>
            <a:ext cx="11201400" cy="315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901440" y="5323320"/>
            <a:ext cx="11201400" cy="315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901440" y="253800"/>
            <a:ext cx="11201400" cy="148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901440" y="1866960"/>
            <a:ext cx="5466240" cy="315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6641280" y="1866960"/>
            <a:ext cx="5466240" cy="315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901440" y="5323320"/>
            <a:ext cx="5466240" cy="315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6641280" y="5323320"/>
            <a:ext cx="5466240" cy="315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01440" y="253800"/>
            <a:ext cx="11201400" cy="148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01440" y="1866960"/>
            <a:ext cx="3606480" cy="315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8640" y="1866960"/>
            <a:ext cx="3606480" cy="315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475840" y="1866960"/>
            <a:ext cx="3606480" cy="315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901440" y="5323320"/>
            <a:ext cx="3606480" cy="315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4688640" y="5323320"/>
            <a:ext cx="3606480" cy="315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8475840" y="5323320"/>
            <a:ext cx="3606480" cy="315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901440" y="253800"/>
            <a:ext cx="11201400" cy="148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901440" y="1866960"/>
            <a:ext cx="3606480" cy="315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88640" y="1866960"/>
            <a:ext cx="3606480" cy="315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8475840" y="1866960"/>
            <a:ext cx="3606480" cy="315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901440" y="5323320"/>
            <a:ext cx="3606480" cy="315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4688640" y="5323320"/>
            <a:ext cx="3606480" cy="315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8475840" y="5323320"/>
            <a:ext cx="3606480" cy="315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901440" y="253800"/>
            <a:ext cx="11201400" cy="148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901440" y="1866960"/>
            <a:ext cx="11201400" cy="661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901440" y="253800"/>
            <a:ext cx="11201400" cy="148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901440" y="1866960"/>
            <a:ext cx="11201400" cy="661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901440" y="253800"/>
            <a:ext cx="11201400" cy="148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901440" y="1866960"/>
            <a:ext cx="5466240" cy="661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6641280" y="1866960"/>
            <a:ext cx="5466240" cy="661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901440" y="253800"/>
            <a:ext cx="11201400" cy="148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ubTitle"/>
          </p:nvPr>
        </p:nvSpPr>
        <p:spPr>
          <a:xfrm>
            <a:off x="901440" y="253800"/>
            <a:ext cx="11201400" cy="68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901440" y="253800"/>
            <a:ext cx="11201400" cy="148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901440" y="1866960"/>
            <a:ext cx="5466240" cy="315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6641280" y="1866960"/>
            <a:ext cx="5466240" cy="661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901440" y="5323320"/>
            <a:ext cx="5466240" cy="315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901440" y="253800"/>
            <a:ext cx="11201400" cy="148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901440" y="1866960"/>
            <a:ext cx="5466240" cy="661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6641280" y="1866960"/>
            <a:ext cx="5466240" cy="315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6641280" y="5323320"/>
            <a:ext cx="5466240" cy="315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901440" y="253800"/>
            <a:ext cx="11201400" cy="148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901440" y="1866960"/>
            <a:ext cx="5466240" cy="315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6641280" y="1866960"/>
            <a:ext cx="5466240" cy="315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901440" y="5323320"/>
            <a:ext cx="11201400" cy="315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901440" y="253800"/>
            <a:ext cx="11201400" cy="148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901440" y="1866960"/>
            <a:ext cx="11201400" cy="315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901440" y="5323320"/>
            <a:ext cx="11201400" cy="315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901440" y="253800"/>
            <a:ext cx="11201400" cy="148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901440" y="1866960"/>
            <a:ext cx="5466240" cy="315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6641280" y="1866960"/>
            <a:ext cx="5466240" cy="315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901440" y="5323320"/>
            <a:ext cx="5466240" cy="315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6641280" y="5323320"/>
            <a:ext cx="5466240" cy="315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901440" y="253800"/>
            <a:ext cx="11201400" cy="148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01440" y="1866960"/>
            <a:ext cx="3606480" cy="315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88640" y="1866960"/>
            <a:ext cx="3606480" cy="315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8475840" y="1866960"/>
            <a:ext cx="3606480" cy="315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901440" y="5323320"/>
            <a:ext cx="3606480" cy="315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6"/>
          <p:cNvSpPr>
            <a:spLocks noGrp="1"/>
          </p:cNvSpPr>
          <p:nvPr>
            <p:ph/>
          </p:nvPr>
        </p:nvSpPr>
        <p:spPr>
          <a:xfrm>
            <a:off x="4688640" y="5323320"/>
            <a:ext cx="3606480" cy="315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7"/>
          <p:cNvSpPr>
            <a:spLocks noGrp="1"/>
          </p:cNvSpPr>
          <p:nvPr>
            <p:ph/>
          </p:nvPr>
        </p:nvSpPr>
        <p:spPr>
          <a:xfrm>
            <a:off x="8475840" y="5323320"/>
            <a:ext cx="3606480" cy="315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901440" y="253800"/>
            <a:ext cx="11201400" cy="148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901440" y="1866960"/>
            <a:ext cx="11201400" cy="661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01440" y="253800"/>
            <a:ext cx="11201400" cy="148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01440" y="1866960"/>
            <a:ext cx="11201400" cy="661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901440" y="253800"/>
            <a:ext cx="11201400" cy="148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901440" y="1866960"/>
            <a:ext cx="5466240" cy="661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6641280" y="1866960"/>
            <a:ext cx="5466240" cy="661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901440" y="253800"/>
            <a:ext cx="11201400" cy="148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901440" y="253800"/>
            <a:ext cx="11201400" cy="68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901440" y="253800"/>
            <a:ext cx="11201400" cy="148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901440" y="1866960"/>
            <a:ext cx="5466240" cy="315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6641280" y="1866960"/>
            <a:ext cx="5466240" cy="661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901440" y="5323320"/>
            <a:ext cx="5466240" cy="315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01440" y="253800"/>
            <a:ext cx="11201400" cy="148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901440" y="1866960"/>
            <a:ext cx="11201400" cy="661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901440" y="253800"/>
            <a:ext cx="11201400" cy="148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901440" y="1866960"/>
            <a:ext cx="5466240" cy="661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6641280" y="1866960"/>
            <a:ext cx="5466240" cy="315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641280" y="5323320"/>
            <a:ext cx="5466240" cy="315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901440" y="253800"/>
            <a:ext cx="11201400" cy="148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901440" y="1866960"/>
            <a:ext cx="5466240" cy="315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6641280" y="1866960"/>
            <a:ext cx="5466240" cy="315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901440" y="5323320"/>
            <a:ext cx="11201400" cy="315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901440" y="253800"/>
            <a:ext cx="11201400" cy="148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901440" y="1866960"/>
            <a:ext cx="11201400" cy="315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901440" y="5323320"/>
            <a:ext cx="11201400" cy="315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901440" y="253800"/>
            <a:ext cx="11201400" cy="148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901440" y="1866960"/>
            <a:ext cx="5466240" cy="315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641280" y="1866960"/>
            <a:ext cx="5466240" cy="315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901440" y="5323320"/>
            <a:ext cx="5466240" cy="315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6641280" y="5323320"/>
            <a:ext cx="5466240" cy="315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901440" y="253800"/>
            <a:ext cx="11201400" cy="148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901440" y="1866960"/>
            <a:ext cx="3606480" cy="315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88640" y="1866960"/>
            <a:ext cx="3606480" cy="315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8475840" y="1866960"/>
            <a:ext cx="3606480" cy="315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901440" y="5323320"/>
            <a:ext cx="3606480" cy="315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4688640" y="5323320"/>
            <a:ext cx="3606480" cy="315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8475840" y="5323320"/>
            <a:ext cx="3606480" cy="315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901440" y="253800"/>
            <a:ext cx="11201400" cy="148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subTitle"/>
          </p:nvPr>
        </p:nvSpPr>
        <p:spPr>
          <a:xfrm>
            <a:off x="901440" y="1866960"/>
            <a:ext cx="11201400" cy="661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901440" y="253800"/>
            <a:ext cx="11201400" cy="148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901440" y="1866960"/>
            <a:ext cx="11201400" cy="661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901440" y="253800"/>
            <a:ext cx="11201400" cy="148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901440" y="1866960"/>
            <a:ext cx="5466240" cy="661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6641280" y="1866960"/>
            <a:ext cx="5466240" cy="661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901440" y="253800"/>
            <a:ext cx="11201400" cy="148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01440" y="253800"/>
            <a:ext cx="11201400" cy="148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01440" y="1866960"/>
            <a:ext cx="11201400" cy="661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ubTitle"/>
          </p:nvPr>
        </p:nvSpPr>
        <p:spPr>
          <a:xfrm>
            <a:off x="901440" y="253800"/>
            <a:ext cx="11201400" cy="68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901440" y="253800"/>
            <a:ext cx="11201400" cy="148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901440" y="1866960"/>
            <a:ext cx="5466240" cy="315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6641280" y="1866960"/>
            <a:ext cx="5466240" cy="661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901440" y="5323320"/>
            <a:ext cx="5466240" cy="315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901440" y="253800"/>
            <a:ext cx="11201400" cy="148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901440" y="1866960"/>
            <a:ext cx="5466240" cy="661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6641280" y="1866960"/>
            <a:ext cx="5466240" cy="315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6641280" y="5323320"/>
            <a:ext cx="5466240" cy="315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901440" y="253800"/>
            <a:ext cx="11201400" cy="148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901440" y="1866960"/>
            <a:ext cx="5466240" cy="315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6641280" y="1866960"/>
            <a:ext cx="5466240" cy="315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901440" y="5323320"/>
            <a:ext cx="11201400" cy="315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901440" y="253800"/>
            <a:ext cx="11201400" cy="148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901440" y="1866960"/>
            <a:ext cx="11201400" cy="315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901440" y="5323320"/>
            <a:ext cx="11201400" cy="315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901440" y="253800"/>
            <a:ext cx="11201400" cy="148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901440" y="1866960"/>
            <a:ext cx="5466240" cy="315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6641280" y="1866960"/>
            <a:ext cx="5466240" cy="315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901440" y="5323320"/>
            <a:ext cx="5466240" cy="315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6641280" y="5323320"/>
            <a:ext cx="5466240" cy="315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901440" y="253800"/>
            <a:ext cx="11201400" cy="148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901440" y="1866960"/>
            <a:ext cx="3606480" cy="315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88640" y="1866960"/>
            <a:ext cx="3606480" cy="315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8475840" y="1866960"/>
            <a:ext cx="3606480" cy="315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901440" y="5323320"/>
            <a:ext cx="3606480" cy="315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6"/>
          <p:cNvSpPr>
            <a:spLocks noGrp="1"/>
          </p:cNvSpPr>
          <p:nvPr>
            <p:ph/>
          </p:nvPr>
        </p:nvSpPr>
        <p:spPr>
          <a:xfrm>
            <a:off x="4688640" y="5323320"/>
            <a:ext cx="3606480" cy="315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7"/>
          <p:cNvSpPr>
            <a:spLocks noGrp="1"/>
          </p:cNvSpPr>
          <p:nvPr>
            <p:ph/>
          </p:nvPr>
        </p:nvSpPr>
        <p:spPr>
          <a:xfrm>
            <a:off x="8475840" y="5323320"/>
            <a:ext cx="3606480" cy="315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901440" y="253800"/>
            <a:ext cx="11201400" cy="148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901440" y="1866960"/>
            <a:ext cx="11201400" cy="661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901440" y="253800"/>
            <a:ext cx="11201400" cy="148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901440" y="1866960"/>
            <a:ext cx="11201400" cy="661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01440" y="253800"/>
            <a:ext cx="11201400" cy="148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01440" y="1866960"/>
            <a:ext cx="5466240" cy="661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6641280" y="1866960"/>
            <a:ext cx="5466240" cy="661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901440" y="253800"/>
            <a:ext cx="11201400" cy="148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901440" y="1866960"/>
            <a:ext cx="5466240" cy="661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6641280" y="1866960"/>
            <a:ext cx="5466240" cy="661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901440" y="253800"/>
            <a:ext cx="11201400" cy="148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901440" y="253800"/>
            <a:ext cx="11201400" cy="68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901440" y="253800"/>
            <a:ext cx="11201400" cy="148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901440" y="1866960"/>
            <a:ext cx="5466240" cy="315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6641280" y="1866960"/>
            <a:ext cx="5466240" cy="661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901440" y="5323320"/>
            <a:ext cx="5466240" cy="315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901440" y="253800"/>
            <a:ext cx="11201400" cy="148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901440" y="1866960"/>
            <a:ext cx="5466240" cy="661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6641280" y="1866960"/>
            <a:ext cx="5466240" cy="315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6641280" y="5323320"/>
            <a:ext cx="5466240" cy="315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901440" y="253800"/>
            <a:ext cx="11201400" cy="148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901440" y="1866960"/>
            <a:ext cx="5466240" cy="315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6641280" y="1866960"/>
            <a:ext cx="5466240" cy="315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901440" y="5323320"/>
            <a:ext cx="11201400" cy="315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901440" y="253800"/>
            <a:ext cx="11201400" cy="148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901440" y="1866960"/>
            <a:ext cx="11201400" cy="315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901440" y="5323320"/>
            <a:ext cx="11201400" cy="315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901440" y="253800"/>
            <a:ext cx="11201400" cy="148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901440" y="1866960"/>
            <a:ext cx="5466240" cy="315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6641280" y="1866960"/>
            <a:ext cx="5466240" cy="315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901440" y="5323320"/>
            <a:ext cx="5466240" cy="315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6641280" y="5323320"/>
            <a:ext cx="5466240" cy="315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901440" y="253800"/>
            <a:ext cx="11201400" cy="148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901440" y="1866960"/>
            <a:ext cx="3606480" cy="315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88640" y="1866960"/>
            <a:ext cx="3606480" cy="315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8475840" y="1866960"/>
            <a:ext cx="3606480" cy="315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901440" y="5323320"/>
            <a:ext cx="3606480" cy="315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4688640" y="5323320"/>
            <a:ext cx="3606480" cy="315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8475840" y="5323320"/>
            <a:ext cx="3606480" cy="315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01440" y="253800"/>
            <a:ext cx="11201400" cy="148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901440" y="253800"/>
            <a:ext cx="11201400" cy="148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901440" y="1866960"/>
            <a:ext cx="11201400" cy="661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901440" y="253800"/>
            <a:ext cx="11201400" cy="148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901440" y="1866960"/>
            <a:ext cx="11201400" cy="661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901440" y="253800"/>
            <a:ext cx="11201400" cy="148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901440" y="1866960"/>
            <a:ext cx="5466240" cy="661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6641280" y="1866960"/>
            <a:ext cx="5466240" cy="661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901440" y="253800"/>
            <a:ext cx="11201400" cy="148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901440" y="253800"/>
            <a:ext cx="11201400" cy="68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901440" y="253800"/>
            <a:ext cx="11201400" cy="148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901440" y="1866960"/>
            <a:ext cx="5466240" cy="315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6641280" y="1866960"/>
            <a:ext cx="5466240" cy="661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901440" y="5323320"/>
            <a:ext cx="5466240" cy="315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901440" y="253800"/>
            <a:ext cx="11201400" cy="148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901440" y="1866960"/>
            <a:ext cx="5466240" cy="661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6641280" y="1866960"/>
            <a:ext cx="5466240" cy="315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6641280" y="5323320"/>
            <a:ext cx="5466240" cy="315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901440" y="253800"/>
            <a:ext cx="11201400" cy="148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901440" y="1866960"/>
            <a:ext cx="5466240" cy="315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6641280" y="1866960"/>
            <a:ext cx="5466240" cy="315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901440" y="5323320"/>
            <a:ext cx="11201400" cy="315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901440" y="253800"/>
            <a:ext cx="11201400" cy="148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901440" y="1866960"/>
            <a:ext cx="11201400" cy="315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901440" y="5323320"/>
            <a:ext cx="11201400" cy="315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901440" y="253800"/>
            <a:ext cx="11201400" cy="148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901440" y="1866960"/>
            <a:ext cx="5466240" cy="315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6641280" y="1866960"/>
            <a:ext cx="5466240" cy="315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901440" y="5323320"/>
            <a:ext cx="5466240" cy="315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6641280" y="5323320"/>
            <a:ext cx="5466240" cy="315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901440" y="253800"/>
            <a:ext cx="11201400" cy="68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901440" y="253800"/>
            <a:ext cx="11201400" cy="148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901440" y="1866960"/>
            <a:ext cx="3606480" cy="315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88640" y="1866960"/>
            <a:ext cx="3606480" cy="315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8475840" y="1866960"/>
            <a:ext cx="3606480" cy="315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901440" y="5323320"/>
            <a:ext cx="3606480" cy="315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4688640" y="5323320"/>
            <a:ext cx="3606480" cy="315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8475840" y="5323320"/>
            <a:ext cx="3606480" cy="315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901440" y="253800"/>
            <a:ext cx="11201400" cy="148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subTitle"/>
          </p:nvPr>
        </p:nvSpPr>
        <p:spPr>
          <a:xfrm>
            <a:off x="901440" y="1866960"/>
            <a:ext cx="11201400" cy="661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901440" y="253800"/>
            <a:ext cx="11201400" cy="148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901440" y="1866960"/>
            <a:ext cx="11201400" cy="661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901440" y="253800"/>
            <a:ext cx="11201400" cy="148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901440" y="1866960"/>
            <a:ext cx="5466240" cy="661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6641280" y="1866960"/>
            <a:ext cx="5466240" cy="661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901440" y="253800"/>
            <a:ext cx="11201400" cy="148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subTitle"/>
          </p:nvPr>
        </p:nvSpPr>
        <p:spPr>
          <a:xfrm>
            <a:off x="901440" y="253800"/>
            <a:ext cx="11201400" cy="68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901440" y="253800"/>
            <a:ext cx="11201400" cy="148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901440" y="1866960"/>
            <a:ext cx="5466240" cy="315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6641280" y="1866960"/>
            <a:ext cx="5466240" cy="661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901440" y="5323320"/>
            <a:ext cx="5466240" cy="315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901440" y="253800"/>
            <a:ext cx="11201400" cy="148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901440" y="1866960"/>
            <a:ext cx="5466240" cy="661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6641280" y="1866960"/>
            <a:ext cx="5466240" cy="315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6641280" y="5323320"/>
            <a:ext cx="5466240" cy="315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901440" y="253800"/>
            <a:ext cx="11201400" cy="148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901440" y="1866960"/>
            <a:ext cx="5466240" cy="315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6641280" y="1866960"/>
            <a:ext cx="5466240" cy="315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901440" y="5323320"/>
            <a:ext cx="11201400" cy="315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01440" y="253800"/>
            <a:ext cx="11201400" cy="148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01440" y="1866960"/>
            <a:ext cx="5466240" cy="315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6641280" y="1866960"/>
            <a:ext cx="5466240" cy="661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901440" y="5323320"/>
            <a:ext cx="5466240" cy="315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901440" y="253800"/>
            <a:ext cx="11201400" cy="148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901440" y="1866960"/>
            <a:ext cx="11201400" cy="315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901440" y="5323320"/>
            <a:ext cx="11201400" cy="315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901440" y="253800"/>
            <a:ext cx="11201400" cy="148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901440" y="1866960"/>
            <a:ext cx="5466240" cy="315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6641280" y="1866960"/>
            <a:ext cx="5466240" cy="315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901440" y="5323320"/>
            <a:ext cx="5466240" cy="315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6641280" y="5323320"/>
            <a:ext cx="5466240" cy="315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901440" y="253800"/>
            <a:ext cx="11201400" cy="148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901440" y="1866960"/>
            <a:ext cx="3606480" cy="315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88640" y="1866960"/>
            <a:ext cx="3606480" cy="315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8475840" y="1866960"/>
            <a:ext cx="3606480" cy="315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901440" y="5323320"/>
            <a:ext cx="3606480" cy="315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6"/>
          <p:cNvSpPr>
            <a:spLocks noGrp="1"/>
          </p:cNvSpPr>
          <p:nvPr>
            <p:ph/>
          </p:nvPr>
        </p:nvSpPr>
        <p:spPr>
          <a:xfrm>
            <a:off x="4688640" y="5323320"/>
            <a:ext cx="3606480" cy="315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7"/>
          <p:cNvSpPr>
            <a:spLocks noGrp="1"/>
          </p:cNvSpPr>
          <p:nvPr>
            <p:ph/>
          </p:nvPr>
        </p:nvSpPr>
        <p:spPr>
          <a:xfrm>
            <a:off x="8475840" y="5323320"/>
            <a:ext cx="3606480" cy="315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01440" y="253800"/>
            <a:ext cx="11201400" cy="148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901440" y="1866960"/>
            <a:ext cx="11201400" cy="661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01440" y="253800"/>
            <a:ext cx="11201400" cy="148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01440" y="1866960"/>
            <a:ext cx="5466240" cy="661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641280" y="1866960"/>
            <a:ext cx="5466240" cy="315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641280" y="5323320"/>
            <a:ext cx="5466240" cy="315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01440" y="253800"/>
            <a:ext cx="11201400" cy="148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01440" y="1866960"/>
            <a:ext cx="5466240" cy="315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641280" y="1866960"/>
            <a:ext cx="5466240" cy="315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901440" y="5323320"/>
            <a:ext cx="11201400" cy="315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01440" y="253800"/>
            <a:ext cx="11201400" cy="148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01440" y="1866960"/>
            <a:ext cx="11201400" cy="315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901440" y="5323320"/>
            <a:ext cx="11201400" cy="315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01440" y="253800"/>
            <a:ext cx="11201400" cy="148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01440" y="1866960"/>
            <a:ext cx="5466240" cy="315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641280" y="1866960"/>
            <a:ext cx="5466240" cy="315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01440" y="5323320"/>
            <a:ext cx="5466240" cy="315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6641280" y="5323320"/>
            <a:ext cx="5466240" cy="315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01440" y="253800"/>
            <a:ext cx="11201400" cy="148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01440" y="1866960"/>
            <a:ext cx="3606480" cy="315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8640" y="1866960"/>
            <a:ext cx="3606480" cy="315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475840" y="1866960"/>
            <a:ext cx="3606480" cy="315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901440" y="5323320"/>
            <a:ext cx="3606480" cy="315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4688640" y="5323320"/>
            <a:ext cx="3606480" cy="315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8475840" y="5323320"/>
            <a:ext cx="3606480" cy="315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01440" y="253800"/>
            <a:ext cx="11201400" cy="148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901440" y="1866960"/>
            <a:ext cx="11201400" cy="661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01440" y="253800"/>
            <a:ext cx="11201400" cy="148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01440" y="1866960"/>
            <a:ext cx="11201400" cy="661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01440" y="253800"/>
            <a:ext cx="11201400" cy="148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01440" y="1866960"/>
            <a:ext cx="5466240" cy="661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6641280" y="1866960"/>
            <a:ext cx="5466240" cy="661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01440" y="253800"/>
            <a:ext cx="11201400" cy="148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01440" y="253800"/>
            <a:ext cx="11201400" cy="148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901440" y="1866960"/>
            <a:ext cx="11201400" cy="661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901440" y="253800"/>
            <a:ext cx="11201400" cy="68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01440" y="253800"/>
            <a:ext cx="11201400" cy="148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01440" y="1866960"/>
            <a:ext cx="5466240" cy="315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641280" y="1866960"/>
            <a:ext cx="5466240" cy="661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01440" y="5323320"/>
            <a:ext cx="5466240" cy="315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01440" y="253800"/>
            <a:ext cx="11201400" cy="148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01440" y="1866960"/>
            <a:ext cx="5466240" cy="661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641280" y="1866960"/>
            <a:ext cx="5466240" cy="315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641280" y="5323320"/>
            <a:ext cx="5466240" cy="315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01440" y="253800"/>
            <a:ext cx="11201400" cy="148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01440" y="1866960"/>
            <a:ext cx="5466240" cy="315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6641280" y="1866960"/>
            <a:ext cx="5466240" cy="315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901440" y="5323320"/>
            <a:ext cx="11201400" cy="315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01440" y="253800"/>
            <a:ext cx="11201400" cy="148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01440" y="1866960"/>
            <a:ext cx="11201400" cy="315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901440" y="5323320"/>
            <a:ext cx="11201400" cy="315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01440" y="253800"/>
            <a:ext cx="11201400" cy="148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01440" y="1866960"/>
            <a:ext cx="5466240" cy="315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641280" y="1866960"/>
            <a:ext cx="5466240" cy="315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901440" y="5323320"/>
            <a:ext cx="5466240" cy="315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6641280" y="5323320"/>
            <a:ext cx="5466240" cy="315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01440" y="253800"/>
            <a:ext cx="11201400" cy="148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01440" y="1866960"/>
            <a:ext cx="3606480" cy="315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88640" y="1866960"/>
            <a:ext cx="3606480" cy="315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8475840" y="1866960"/>
            <a:ext cx="3606480" cy="315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901440" y="5323320"/>
            <a:ext cx="3606480" cy="315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/>
          </p:nvPr>
        </p:nvSpPr>
        <p:spPr>
          <a:xfrm>
            <a:off x="4688640" y="5323320"/>
            <a:ext cx="3606480" cy="315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7"/>
          <p:cNvSpPr>
            <a:spLocks noGrp="1"/>
          </p:cNvSpPr>
          <p:nvPr>
            <p:ph/>
          </p:nvPr>
        </p:nvSpPr>
        <p:spPr>
          <a:xfrm>
            <a:off x="8475840" y="5323320"/>
            <a:ext cx="3606480" cy="315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01440" y="253800"/>
            <a:ext cx="11201400" cy="148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901440" y="1866960"/>
            <a:ext cx="11201400" cy="661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01440" y="253800"/>
            <a:ext cx="11201400" cy="148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01440" y="1866960"/>
            <a:ext cx="11201400" cy="661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01440" y="253800"/>
            <a:ext cx="11201400" cy="148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901440" y="1866960"/>
            <a:ext cx="5466240" cy="661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6641280" y="1866960"/>
            <a:ext cx="5466240" cy="661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01440" y="253800"/>
            <a:ext cx="11201400" cy="148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01440" y="1866960"/>
            <a:ext cx="5466240" cy="661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6641280" y="1866960"/>
            <a:ext cx="5466240" cy="661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01440" y="253800"/>
            <a:ext cx="11201400" cy="148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901440" y="253800"/>
            <a:ext cx="11201400" cy="68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01440" y="253800"/>
            <a:ext cx="11201400" cy="148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01440" y="1866960"/>
            <a:ext cx="5466240" cy="315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641280" y="1866960"/>
            <a:ext cx="5466240" cy="661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901440" y="5323320"/>
            <a:ext cx="5466240" cy="315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01440" y="253800"/>
            <a:ext cx="11201400" cy="148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01440" y="1866960"/>
            <a:ext cx="5466240" cy="661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641280" y="1866960"/>
            <a:ext cx="5466240" cy="315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641280" y="5323320"/>
            <a:ext cx="5466240" cy="315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01440" y="253800"/>
            <a:ext cx="11201400" cy="148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01440" y="1866960"/>
            <a:ext cx="5466240" cy="315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641280" y="1866960"/>
            <a:ext cx="5466240" cy="315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901440" y="5323320"/>
            <a:ext cx="11201400" cy="315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01440" y="253800"/>
            <a:ext cx="11201400" cy="148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01440" y="1866960"/>
            <a:ext cx="11201400" cy="315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901440" y="5323320"/>
            <a:ext cx="11201400" cy="315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01440" y="253800"/>
            <a:ext cx="11201400" cy="148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01440" y="1866960"/>
            <a:ext cx="5466240" cy="315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6641280" y="1866960"/>
            <a:ext cx="5466240" cy="315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901440" y="5323320"/>
            <a:ext cx="5466240" cy="315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6641280" y="5323320"/>
            <a:ext cx="5466240" cy="315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01440" y="253800"/>
            <a:ext cx="11201400" cy="148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01440" y="1866960"/>
            <a:ext cx="3606480" cy="315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88640" y="1866960"/>
            <a:ext cx="3606480" cy="315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8475840" y="1866960"/>
            <a:ext cx="3606480" cy="315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901440" y="5323320"/>
            <a:ext cx="3606480" cy="315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4688640" y="5323320"/>
            <a:ext cx="3606480" cy="315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8475840" y="5323320"/>
            <a:ext cx="3606480" cy="315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01440" y="253800"/>
            <a:ext cx="11201400" cy="148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01440" y="253800"/>
            <a:ext cx="11201400" cy="148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901440" y="1866960"/>
            <a:ext cx="11201400" cy="661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01440" y="253800"/>
            <a:ext cx="11201400" cy="148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01440" y="1866960"/>
            <a:ext cx="11201400" cy="661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01440" y="253800"/>
            <a:ext cx="11201400" cy="148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01440" y="1866960"/>
            <a:ext cx="5466240" cy="661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6641280" y="1866960"/>
            <a:ext cx="5466240" cy="661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01440" y="253800"/>
            <a:ext cx="11201400" cy="148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901440" y="253800"/>
            <a:ext cx="11201400" cy="68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01440" y="253800"/>
            <a:ext cx="11201400" cy="148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01440" y="1866960"/>
            <a:ext cx="5466240" cy="315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6641280" y="1866960"/>
            <a:ext cx="5466240" cy="661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901440" y="5323320"/>
            <a:ext cx="5466240" cy="315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01440" y="253800"/>
            <a:ext cx="11201400" cy="148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01440" y="1866960"/>
            <a:ext cx="5466240" cy="661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6641280" y="1866960"/>
            <a:ext cx="5466240" cy="315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641280" y="5323320"/>
            <a:ext cx="5466240" cy="315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01440" y="253800"/>
            <a:ext cx="11201400" cy="148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01440" y="1866960"/>
            <a:ext cx="5466240" cy="315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6641280" y="1866960"/>
            <a:ext cx="5466240" cy="315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901440" y="5323320"/>
            <a:ext cx="11201400" cy="315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01440" y="253800"/>
            <a:ext cx="11201400" cy="148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01440" y="1866960"/>
            <a:ext cx="11201400" cy="315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901440" y="5323320"/>
            <a:ext cx="11201400" cy="315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01440" y="253800"/>
            <a:ext cx="11201400" cy="148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01440" y="1866960"/>
            <a:ext cx="5466240" cy="315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6641280" y="1866960"/>
            <a:ext cx="5466240" cy="315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901440" y="5323320"/>
            <a:ext cx="5466240" cy="315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6641280" y="5323320"/>
            <a:ext cx="5466240" cy="315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901440" y="253800"/>
            <a:ext cx="11201400" cy="68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01440" y="253800"/>
            <a:ext cx="11201400" cy="148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01440" y="1866960"/>
            <a:ext cx="3606480" cy="315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8640" y="1866960"/>
            <a:ext cx="3606480" cy="315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8475840" y="1866960"/>
            <a:ext cx="3606480" cy="315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901440" y="5323320"/>
            <a:ext cx="3606480" cy="315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4688640" y="5323320"/>
            <a:ext cx="3606480" cy="315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8475840" y="5323320"/>
            <a:ext cx="3606480" cy="315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01440" y="253800"/>
            <a:ext cx="11201400" cy="148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901440" y="1866960"/>
            <a:ext cx="11201400" cy="661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01440" y="253800"/>
            <a:ext cx="11201400" cy="148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01440" y="1866960"/>
            <a:ext cx="11201400" cy="661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01440" y="253800"/>
            <a:ext cx="11201400" cy="148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01440" y="1866960"/>
            <a:ext cx="5466240" cy="661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641280" y="1866960"/>
            <a:ext cx="5466240" cy="661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01440" y="253800"/>
            <a:ext cx="11201400" cy="148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901440" y="253800"/>
            <a:ext cx="11201400" cy="68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01440" y="253800"/>
            <a:ext cx="11201400" cy="148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01440" y="1866960"/>
            <a:ext cx="5466240" cy="315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6641280" y="1866960"/>
            <a:ext cx="5466240" cy="661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01440" y="5323320"/>
            <a:ext cx="5466240" cy="315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01440" y="253800"/>
            <a:ext cx="11201400" cy="148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901440" y="1866960"/>
            <a:ext cx="5466240" cy="661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6641280" y="1866960"/>
            <a:ext cx="5466240" cy="315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641280" y="5323320"/>
            <a:ext cx="5466240" cy="315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01440" y="253800"/>
            <a:ext cx="11201400" cy="148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01440" y="1866960"/>
            <a:ext cx="5466240" cy="315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6641280" y="1866960"/>
            <a:ext cx="5466240" cy="315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901440" y="5323320"/>
            <a:ext cx="11201400" cy="315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01440" y="253800"/>
            <a:ext cx="11201400" cy="148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01440" y="1866960"/>
            <a:ext cx="5466240" cy="315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641280" y="1866960"/>
            <a:ext cx="5466240" cy="661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901440" y="5323320"/>
            <a:ext cx="5466240" cy="315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01440" y="253800"/>
            <a:ext cx="11201400" cy="148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901440" y="1866960"/>
            <a:ext cx="11201400" cy="315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901440" y="5323320"/>
            <a:ext cx="11201400" cy="315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01440" y="253800"/>
            <a:ext cx="11201400" cy="148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01440" y="1866960"/>
            <a:ext cx="5466240" cy="315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6641280" y="1866960"/>
            <a:ext cx="5466240" cy="315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901440" y="5323320"/>
            <a:ext cx="5466240" cy="315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641280" y="5323320"/>
            <a:ext cx="5466240" cy="315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01440" y="253800"/>
            <a:ext cx="11201400" cy="148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901440" y="1866960"/>
            <a:ext cx="3606480" cy="315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88640" y="1866960"/>
            <a:ext cx="3606480" cy="315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8475840" y="1866960"/>
            <a:ext cx="3606480" cy="315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901440" y="5323320"/>
            <a:ext cx="3606480" cy="315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4688640" y="5323320"/>
            <a:ext cx="3606480" cy="315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8475840" y="5323320"/>
            <a:ext cx="3606480" cy="315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01440" y="253800"/>
            <a:ext cx="11201400" cy="148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901440" y="1866960"/>
            <a:ext cx="11201400" cy="661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01440" y="253800"/>
            <a:ext cx="11201400" cy="148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901440" y="1866960"/>
            <a:ext cx="11201400" cy="661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01440" y="253800"/>
            <a:ext cx="11201400" cy="148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901440" y="1866960"/>
            <a:ext cx="5466240" cy="661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6641280" y="1866960"/>
            <a:ext cx="5466240" cy="661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01440" y="253800"/>
            <a:ext cx="11201400" cy="148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901440" y="253800"/>
            <a:ext cx="11201400" cy="68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01440" y="253800"/>
            <a:ext cx="11201400" cy="148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901440" y="1866960"/>
            <a:ext cx="5466240" cy="315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6641280" y="1866960"/>
            <a:ext cx="5466240" cy="661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901440" y="5323320"/>
            <a:ext cx="5466240" cy="315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01440" y="253800"/>
            <a:ext cx="11201400" cy="148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01440" y="1866960"/>
            <a:ext cx="5466240" cy="661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6641280" y="1866960"/>
            <a:ext cx="5466240" cy="315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641280" y="5323320"/>
            <a:ext cx="5466240" cy="315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01440" y="253800"/>
            <a:ext cx="11201400" cy="148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901440" y="1866960"/>
            <a:ext cx="5466240" cy="661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6641280" y="1866960"/>
            <a:ext cx="5466240" cy="315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641280" y="5323320"/>
            <a:ext cx="5466240" cy="315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01440" y="253800"/>
            <a:ext cx="11201400" cy="148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901440" y="1866960"/>
            <a:ext cx="5466240" cy="315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6641280" y="1866960"/>
            <a:ext cx="5466240" cy="315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901440" y="5323320"/>
            <a:ext cx="11201400" cy="315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01440" y="253800"/>
            <a:ext cx="11201400" cy="148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901440" y="1866960"/>
            <a:ext cx="11201400" cy="315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901440" y="5323320"/>
            <a:ext cx="11201400" cy="315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01440" y="253800"/>
            <a:ext cx="11201400" cy="148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901440" y="1866960"/>
            <a:ext cx="5466240" cy="315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6641280" y="1866960"/>
            <a:ext cx="5466240" cy="315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901440" y="5323320"/>
            <a:ext cx="5466240" cy="315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6641280" y="5323320"/>
            <a:ext cx="5466240" cy="315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901440" y="253800"/>
            <a:ext cx="11201400" cy="148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901440" y="1866960"/>
            <a:ext cx="3606480" cy="315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88640" y="1866960"/>
            <a:ext cx="3606480" cy="315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8475840" y="1866960"/>
            <a:ext cx="3606480" cy="315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901440" y="5323320"/>
            <a:ext cx="3606480" cy="315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4688640" y="5323320"/>
            <a:ext cx="3606480" cy="315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8475840" y="5323320"/>
            <a:ext cx="3606480" cy="315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01440" y="253800"/>
            <a:ext cx="11201400" cy="148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901440" y="1866960"/>
            <a:ext cx="11201400" cy="661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901440" y="253800"/>
            <a:ext cx="11201400" cy="148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901440" y="1866960"/>
            <a:ext cx="11201400" cy="661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01440" y="253800"/>
            <a:ext cx="11201400" cy="148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901440" y="1866960"/>
            <a:ext cx="5466240" cy="661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6641280" y="1866960"/>
            <a:ext cx="5466240" cy="661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01440" y="253800"/>
            <a:ext cx="11201400" cy="148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01440" y="253800"/>
            <a:ext cx="11201400" cy="148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01440" y="1866960"/>
            <a:ext cx="5466240" cy="315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641280" y="1866960"/>
            <a:ext cx="5466240" cy="315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01440" y="5323320"/>
            <a:ext cx="11201400" cy="315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901440" y="253800"/>
            <a:ext cx="11201400" cy="68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01440" y="253800"/>
            <a:ext cx="11201400" cy="148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01440" y="1866960"/>
            <a:ext cx="5466240" cy="315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641280" y="1866960"/>
            <a:ext cx="5466240" cy="661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901440" y="5323320"/>
            <a:ext cx="5466240" cy="315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01440" y="253800"/>
            <a:ext cx="11201400" cy="148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901440" y="1866960"/>
            <a:ext cx="5466240" cy="661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6641280" y="1866960"/>
            <a:ext cx="5466240" cy="315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641280" y="5323320"/>
            <a:ext cx="5466240" cy="315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01440" y="253800"/>
            <a:ext cx="11201400" cy="148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901440" y="1866960"/>
            <a:ext cx="5466240" cy="315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6641280" y="1866960"/>
            <a:ext cx="5466240" cy="315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901440" y="5323320"/>
            <a:ext cx="11201400" cy="315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901440" y="253800"/>
            <a:ext cx="11201400" cy="148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901440" y="1866960"/>
            <a:ext cx="11201400" cy="315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901440" y="5323320"/>
            <a:ext cx="11201400" cy="315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901440" y="253800"/>
            <a:ext cx="11201400" cy="148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901440" y="1866960"/>
            <a:ext cx="5466240" cy="315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6641280" y="1866960"/>
            <a:ext cx="5466240" cy="315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901440" y="5323320"/>
            <a:ext cx="5466240" cy="315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6641280" y="5323320"/>
            <a:ext cx="5466240" cy="315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01440" y="253800"/>
            <a:ext cx="11201400" cy="148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01440" y="1866960"/>
            <a:ext cx="3606480" cy="315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88640" y="1866960"/>
            <a:ext cx="3606480" cy="315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8475840" y="1866960"/>
            <a:ext cx="3606480" cy="315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901440" y="5323320"/>
            <a:ext cx="3606480" cy="315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4688640" y="5323320"/>
            <a:ext cx="3606480" cy="315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8475840" y="5323320"/>
            <a:ext cx="3606480" cy="315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901440" y="253800"/>
            <a:ext cx="11201400" cy="148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901440" y="1866960"/>
            <a:ext cx="11201400" cy="661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901440" y="253800"/>
            <a:ext cx="11201400" cy="148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901440" y="1866960"/>
            <a:ext cx="11201400" cy="661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635040" y="478800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marL="2743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1" marL="274320" indent="-274320" algn="ctr">
              <a:buClr>
                <a:srgbClr val="000000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2" marL="274320" indent="-274320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3" marL="274320" indent="-274320" algn="ctr">
              <a:buClr>
                <a:srgbClr val="000000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4" marL="274320" indent="-274320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5" marL="274320" indent="-274320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6" marL="274320" indent="-274320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7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58536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92772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70080" indent="-380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1208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8000"/>
          </a:bodyPr>
          <a:p>
            <a:pPr marL="66888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106020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451520" indent="-4345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84248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23344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23344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23344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7772040" y="2768400"/>
            <a:ext cx="39625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64000"/>
          </a:bodyPr>
          <a:p>
            <a:pPr marL="48636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711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055520" indent="-31608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3399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6243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6243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6243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58536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92772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70080" indent="-380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1208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01440" y="253800"/>
            <a:ext cx="11201400" cy="148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body"/>
          </p:nvPr>
        </p:nvSpPr>
        <p:spPr>
          <a:xfrm>
            <a:off x="901440" y="1866960"/>
            <a:ext cx="11201400" cy="661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38080" indent="-571320">
              <a:spcBef>
                <a:spcPts val="2401"/>
              </a:spcBef>
              <a:buClr>
                <a:srgbClr val="000000"/>
              </a:buClr>
              <a:buSzPct val="171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1282680" indent="-571320">
              <a:spcBef>
                <a:spcPts val="2401"/>
              </a:spcBef>
              <a:buClr>
                <a:srgbClr val="000000"/>
              </a:buClr>
              <a:buSzPct val="171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727280" indent="-571680">
              <a:spcBef>
                <a:spcPts val="2401"/>
              </a:spcBef>
              <a:buClr>
                <a:srgbClr val="000000"/>
              </a:buClr>
              <a:buSzPct val="171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2171880" indent="-571680">
              <a:spcBef>
                <a:spcPts val="2401"/>
              </a:spcBef>
              <a:buClr>
                <a:srgbClr val="000000"/>
              </a:buClr>
              <a:buSzPct val="171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2616120" indent="-571320">
              <a:spcBef>
                <a:spcPts val="2401"/>
              </a:spcBef>
              <a:buClr>
                <a:srgbClr val="000000"/>
              </a:buClr>
              <a:buSzPct val="171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5" marL="2616120" indent="-571320">
              <a:spcBef>
                <a:spcPts val="2401"/>
              </a:spcBef>
              <a:buClr>
                <a:srgbClr val="000000"/>
              </a:buClr>
              <a:buSzPct val="171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6" marL="2616120" indent="-571320">
              <a:spcBef>
                <a:spcPts val="2401"/>
              </a:spcBef>
              <a:buClr>
                <a:srgbClr val="000000"/>
              </a:buClr>
              <a:buSzPct val="171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" name="Picture 3" descr=""/>
          <p:cNvPicPr/>
          <p:nvPr/>
        </p:nvPicPr>
        <p:blipFill>
          <a:blip r:embed="rId2"/>
          <a:stretch/>
        </p:blipFill>
        <p:spPr>
          <a:xfrm>
            <a:off x="0" y="-50760"/>
            <a:ext cx="13004640" cy="9855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body"/>
          </p:nvPr>
        </p:nvSpPr>
        <p:spPr>
          <a:xfrm>
            <a:off x="1269720" y="1270080"/>
            <a:ext cx="1046484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7000"/>
          </a:bodyPr>
          <a:p>
            <a:pPr marL="72900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1" marL="111564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2" marL="1502640" indent="-49716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3" marL="1889280" indent="-49716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4" marL="227592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5" marL="227592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6" marL="227592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9000"/>
          </a:bodyPr>
          <a:p>
            <a:pPr marL="74556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1" marL="114156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2" marL="1537200" indent="-50868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3" marL="1932840" indent="-50868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4" marL="232812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5" marL="232812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6" marL="232812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6000"/>
          </a:bodyPr>
          <a:p>
            <a:pPr marL="889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1" marL="88920" indent="-88920" algn="ctr">
              <a:buClr>
                <a:srgbClr val="000000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 marL="88920" indent="-88920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3" marL="88920" indent="-88920" algn="ctr">
              <a:buClr>
                <a:srgbClr val="000000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4" marL="88920" indent="-88920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5" marL="88920" indent="-88920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6" marL="88920" indent="-88920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635040" y="478800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marL="2743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1" marL="274320" indent="-274320" algn="ctr">
              <a:buClr>
                <a:srgbClr val="000000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2" marL="274320" indent="-274320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3" marL="274320" indent="-274320" algn="ctr">
              <a:buClr>
                <a:srgbClr val="000000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4" marL="274320" indent="-274320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5" marL="274320" indent="-274320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6" marL="274320" indent="-274320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7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mailto:playrobot@playrobot.com" TargetMode="Externa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3" name="Picture 1" descr=""/>
          <p:cNvPicPr/>
          <p:nvPr/>
        </p:nvPicPr>
        <p:blipFill>
          <a:blip r:embed="rId1"/>
          <a:stretch/>
        </p:blipFill>
        <p:spPr>
          <a:xfrm>
            <a:off x="0" y="-50760"/>
            <a:ext cx="13004640" cy="9855000"/>
          </a:xfrm>
          <a:prstGeom prst="rect">
            <a:avLst/>
          </a:prstGeom>
          <a:ln w="0">
            <a:noFill/>
          </a:ln>
        </p:spPr>
      </p:pic>
      <p:sp>
        <p:nvSpPr>
          <p:cNvPr id="604" name="Rectangle 2"/>
          <p:cNvSpPr/>
          <p:nvPr/>
        </p:nvSpPr>
        <p:spPr>
          <a:xfrm>
            <a:off x="1092240" y="6311880"/>
            <a:ext cx="11201400" cy="31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resented to: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ational Tsinghua University 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May 8, 2012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Ken Gracey, President (kgracey@parallax.com)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Jessica Uelmen, Engineering Manager (juelmen@parallax.com)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obert Wang and Jelly Wang (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ea typeface="ＭＳ Ｐゴシック"/>
                <a:hlinkClick r:id="rId2"/>
              </a:rPr>
              <a:t>playrobot@playrobot.com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5" name="Rectangle 3"/>
          <p:cNvSpPr/>
          <p:nvPr/>
        </p:nvSpPr>
        <p:spPr>
          <a:xfrm>
            <a:off x="1092240" y="812880"/>
            <a:ext cx="11201400" cy="31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ropeller Multicore: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embedded programming for product design and education 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606" name="Picture 4" descr=""/>
          <p:cNvPicPr/>
          <p:nvPr/>
        </p:nvPicPr>
        <p:blipFill>
          <a:blip r:embed="rId3"/>
          <a:stretch/>
        </p:blipFill>
        <p:spPr>
          <a:xfrm>
            <a:off x="5918040" y="4362480"/>
            <a:ext cx="1536840" cy="1536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6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9" name="Picture 1" descr=""/>
          <p:cNvPicPr/>
          <p:nvPr/>
        </p:nvPicPr>
        <p:blipFill>
          <a:blip r:embed="rId1"/>
          <a:stretch/>
        </p:blipFill>
        <p:spPr>
          <a:xfrm>
            <a:off x="-1028880" y="7188120"/>
            <a:ext cx="916200" cy="1041480"/>
          </a:xfrm>
          <a:prstGeom prst="rect">
            <a:avLst/>
          </a:prstGeom>
          <a:ln w="0">
            <a:noFill/>
          </a:ln>
        </p:spPr>
      </p:pic>
      <p:sp>
        <p:nvSpPr>
          <p:cNvPr id="670" name="Rectangle 2"/>
          <p:cNvSpPr/>
          <p:nvPr/>
        </p:nvSpPr>
        <p:spPr>
          <a:xfrm>
            <a:off x="5114880" y="4136040"/>
            <a:ext cx="2763720" cy="731880"/>
          </a:xfrm>
          <a:prstGeom prst="rect">
            <a:avLst/>
          </a:prstGeom>
          <a:solidFill>
            <a:srgbClr val="00344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ropeller Multicor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8X32A Processor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1" name="Rectangle 3"/>
          <p:cNvSpPr/>
          <p:nvPr/>
        </p:nvSpPr>
        <p:spPr>
          <a:xfrm>
            <a:off x="5005440" y="2451240"/>
            <a:ext cx="2984400" cy="6858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/C Receiv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pektrum DX-8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2" name="Rectangle 4"/>
          <p:cNvSpPr/>
          <p:nvPr/>
        </p:nvSpPr>
        <p:spPr>
          <a:xfrm>
            <a:off x="1384200" y="3441600"/>
            <a:ext cx="2984760" cy="4064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yroscop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DG-3200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3" name="Rectangle 5"/>
          <p:cNvSpPr/>
          <p:nvPr/>
        </p:nvSpPr>
        <p:spPr>
          <a:xfrm>
            <a:off x="866160" y="6644520"/>
            <a:ext cx="2506320" cy="4266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5A Electronic Speed Control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urnigy Plush 25A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4" name="Rectangle 6"/>
          <p:cNvSpPr/>
          <p:nvPr/>
        </p:nvSpPr>
        <p:spPr>
          <a:xfrm>
            <a:off x="8381880" y="3454560"/>
            <a:ext cx="2984760" cy="406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peaker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5" name="Rectangle 7"/>
          <p:cNvSpPr/>
          <p:nvPr/>
        </p:nvSpPr>
        <p:spPr>
          <a:xfrm>
            <a:off x="8383680" y="5149800"/>
            <a:ext cx="2984400" cy="4064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ri-color LED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6" name="Line 8"/>
          <p:cNvSpPr/>
          <p:nvPr/>
        </p:nvSpPr>
        <p:spPr>
          <a:xfrm>
            <a:off x="2108160" y="6375240"/>
            <a:ext cx="0" cy="196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7" name="Rectangle 9"/>
          <p:cNvSpPr/>
          <p:nvPr/>
        </p:nvSpPr>
        <p:spPr>
          <a:xfrm>
            <a:off x="3790440" y="6631920"/>
            <a:ext cx="2506320" cy="4266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5A Electronic Speed Control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urnigy Plush 25A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8" name="Line 10"/>
          <p:cNvSpPr/>
          <p:nvPr/>
        </p:nvSpPr>
        <p:spPr>
          <a:xfrm>
            <a:off x="5029200" y="6362640"/>
            <a:ext cx="0" cy="196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9" name="Rectangle 11"/>
          <p:cNvSpPr/>
          <p:nvPr/>
        </p:nvSpPr>
        <p:spPr>
          <a:xfrm>
            <a:off x="6698520" y="6631920"/>
            <a:ext cx="2506320" cy="4266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5A Electronic Speed Control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urnigy Plush 25A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0" name="Line 12"/>
          <p:cNvSpPr/>
          <p:nvPr/>
        </p:nvSpPr>
        <p:spPr>
          <a:xfrm>
            <a:off x="7937640" y="6362640"/>
            <a:ext cx="0" cy="196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1" name="Rectangle 13"/>
          <p:cNvSpPr/>
          <p:nvPr/>
        </p:nvSpPr>
        <p:spPr>
          <a:xfrm>
            <a:off x="9619560" y="6619320"/>
            <a:ext cx="2506320" cy="4266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5A Electronic Speed Control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urnigy Plush 25A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2" name="Line 14"/>
          <p:cNvSpPr/>
          <p:nvPr/>
        </p:nvSpPr>
        <p:spPr>
          <a:xfrm>
            <a:off x="10858680" y="6362640"/>
            <a:ext cx="0" cy="184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3" name="Line 15"/>
          <p:cNvSpPr/>
          <p:nvPr/>
        </p:nvSpPr>
        <p:spPr>
          <a:xfrm>
            <a:off x="6489720" y="3130560"/>
            <a:ext cx="0" cy="954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4" name="Line 16"/>
          <p:cNvSpPr/>
          <p:nvPr/>
        </p:nvSpPr>
        <p:spPr>
          <a:xfrm>
            <a:off x="6489720" y="4943520"/>
            <a:ext cx="0" cy="1409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5" name="Line 17"/>
          <p:cNvSpPr/>
          <p:nvPr/>
        </p:nvSpPr>
        <p:spPr>
          <a:xfrm flipH="1">
            <a:off x="2128680" y="6369120"/>
            <a:ext cx="8737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6" name="Rectangle 18"/>
          <p:cNvSpPr/>
          <p:nvPr/>
        </p:nvSpPr>
        <p:spPr>
          <a:xfrm>
            <a:off x="1371600" y="5168880"/>
            <a:ext cx="2984400" cy="4064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B Interfac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TDI 232RL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7" name="Rectangle 19"/>
          <p:cNvSpPr/>
          <p:nvPr/>
        </p:nvSpPr>
        <p:spPr>
          <a:xfrm>
            <a:off x="901800" y="254160"/>
            <a:ext cx="11201400" cy="14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ample 4: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LEV-8 Quadcopter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lock diagram of control system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8" name="Line 20"/>
          <p:cNvSpPr/>
          <p:nvPr/>
        </p:nvSpPr>
        <p:spPr>
          <a:xfrm>
            <a:off x="5638680" y="4915080"/>
            <a:ext cx="0" cy="448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9" name="Line 21"/>
          <p:cNvSpPr/>
          <p:nvPr/>
        </p:nvSpPr>
        <p:spPr>
          <a:xfrm flipH="1">
            <a:off x="4346280" y="5359320"/>
            <a:ext cx="13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0" name="Line 22"/>
          <p:cNvSpPr/>
          <p:nvPr/>
        </p:nvSpPr>
        <p:spPr>
          <a:xfrm>
            <a:off x="7340760" y="4915080"/>
            <a:ext cx="0" cy="448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1" name="Line 23"/>
          <p:cNvSpPr/>
          <p:nvPr/>
        </p:nvSpPr>
        <p:spPr>
          <a:xfrm flipH="1">
            <a:off x="7337160" y="5359320"/>
            <a:ext cx="10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2" name="Line 24"/>
          <p:cNvSpPr/>
          <p:nvPr/>
        </p:nvSpPr>
        <p:spPr>
          <a:xfrm flipV="1">
            <a:off x="7340760" y="3638160"/>
            <a:ext cx="0" cy="43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3" name="Line 25"/>
          <p:cNvSpPr/>
          <p:nvPr/>
        </p:nvSpPr>
        <p:spPr>
          <a:xfrm>
            <a:off x="7354800" y="3645000"/>
            <a:ext cx="1035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4" name="Line 26"/>
          <p:cNvSpPr/>
          <p:nvPr/>
        </p:nvSpPr>
        <p:spPr>
          <a:xfrm>
            <a:off x="5638680" y="3654360"/>
            <a:ext cx="0" cy="414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5" name="Line 27"/>
          <p:cNvSpPr/>
          <p:nvPr/>
        </p:nvSpPr>
        <p:spPr>
          <a:xfrm>
            <a:off x="4386240" y="3645000"/>
            <a:ext cx="1266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6" name="Rectangle 28"/>
          <p:cNvSpPr/>
          <p:nvPr/>
        </p:nvSpPr>
        <p:spPr>
          <a:xfrm>
            <a:off x="9766440" y="1612800"/>
            <a:ext cx="2984400" cy="6858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/C Transmitt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pektrum DX-8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697" name="Picture 29" descr=""/>
          <p:cNvPicPr/>
          <p:nvPr/>
        </p:nvPicPr>
        <p:blipFill>
          <a:blip r:embed="rId2"/>
          <a:stretch/>
        </p:blipFill>
        <p:spPr>
          <a:xfrm rot="8754600">
            <a:off x="8264160" y="2093040"/>
            <a:ext cx="1447920" cy="987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Rectangle 1"/>
          <p:cNvSpPr/>
          <p:nvPr/>
        </p:nvSpPr>
        <p:spPr>
          <a:xfrm>
            <a:off x="901800" y="254160"/>
            <a:ext cx="11201400" cy="14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gress in Education: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ASIC Stamp to Propeller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0,000x performance increase + new possibilities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608" name="Picture 2" descr=""/>
          <p:cNvPicPr/>
          <p:nvPr/>
        </p:nvPicPr>
        <p:blipFill>
          <a:blip r:embed="rId1"/>
          <a:srcRect l="9249" t="17850" r="4730" b="18066"/>
          <a:stretch/>
        </p:blipFill>
        <p:spPr>
          <a:xfrm>
            <a:off x="6438960" y="1917720"/>
            <a:ext cx="5079960" cy="3784680"/>
          </a:xfrm>
          <a:prstGeom prst="rect">
            <a:avLst/>
          </a:prstGeom>
          <a:ln w="0">
            <a:noFill/>
          </a:ln>
        </p:spPr>
      </p:pic>
      <p:pic>
        <p:nvPicPr>
          <p:cNvPr id="609" name="Picture 3" descr=""/>
          <p:cNvPicPr/>
          <p:nvPr/>
        </p:nvPicPr>
        <p:blipFill>
          <a:blip r:embed="rId2"/>
          <a:stretch/>
        </p:blipFill>
        <p:spPr>
          <a:xfrm>
            <a:off x="647640" y="1689120"/>
            <a:ext cx="5640480" cy="4444920"/>
          </a:xfrm>
          <a:prstGeom prst="rect">
            <a:avLst/>
          </a:prstGeom>
          <a:ln w="0">
            <a:noFill/>
          </a:ln>
        </p:spPr>
      </p:pic>
      <p:sp>
        <p:nvSpPr>
          <p:cNvPr id="610" name="AutoShape 4"/>
          <p:cNvSpPr/>
          <p:nvPr/>
        </p:nvSpPr>
        <p:spPr>
          <a:xfrm>
            <a:off x="1143000" y="5651640"/>
            <a:ext cx="10337760" cy="1269720"/>
          </a:xfrm>
          <a:prstGeom prst="rightArrow">
            <a:avLst>
              <a:gd name="adj1" fmla="val 32000"/>
              <a:gd name="adj2" fmla="val 44026"/>
            </a:avLst>
          </a:prstGeom>
          <a:blipFill rotWithShape="0">
            <a:blip r:embed="rId3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ill Sans"/>
                <a:ea typeface="ＭＳ Ｐゴシック"/>
              </a:rPr>
              <a:t>1998asdf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1" name="Rectangle 5"/>
          <p:cNvSpPr/>
          <p:nvPr/>
        </p:nvSpPr>
        <p:spPr>
          <a:xfrm>
            <a:off x="-189000" y="6076800"/>
            <a:ext cx="1287648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1998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ASIC Stamp Board of Education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201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Propeller Board of Education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2" name="Rectangle 6"/>
          <p:cNvSpPr/>
          <p:nvPr/>
        </p:nvSpPr>
        <p:spPr>
          <a:xfrm>
            <a:off x="1811520" y="6668640"/>
            <a:ext cx="331236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ASIC Stamp Interpreter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ngle-threaded in one (1) core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,000 instructions/sec at 20 MHz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3" name="Rectangle 7"/>
          <p:cNvSpPr/>
          <p:nvPr/>
        </p:nvSpPr>
        <p:spPr>
          <a:xfrm>
            <a:off x="6598800" y="6674760"/>
            <a:ext cx="476028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peller Multicore Microcontroller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arallel processing in eight (8) cores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500,000 instructions/sec to 20 MIPS at 80 MHz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/>
          </p:nvPr>
        </p:nvSpPr>
        <p:spPr>
          <a:xfrm>
            <a:off x="901440" y="1155600"/>
            <a:ext cx="11201400" cy="742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38080" indent="-57132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282680" indent="-5713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119000"/>
              <a:buFont typeface="Gill San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ilar to Python, C, and PBASIC and designed into the Prope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282680" indent="-571320">
              <a:buClr>
                <a:srgbClr val="000000"/>
              </a:buClr>
              <a:buSzPct val="119000"/>
              <a:buFont typeface="Gill San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exa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282680" indent="-571320">
              <a:buClr>
                <a:srgbClr val="000000"/>
              </a:buClr>
              <a:buSzPct val="119000"/>
              <a:buFont typeface="Gill San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y to lea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282680" indent="-571320">
              <a:buClr>
                <a:srgbClr val="000000"/>
              </a:buClr>
              <a:buSzPct val="119000"/>
              <a:buFont typeface="Gill San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00,000 instructions/second to 1 MIP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38080" indent="-571320">
              <a:spcBef>
                <a:spcPts val="499"/>
              </a:spcBef>
              <a:buClr>
                <a:srgbClr val="000000"/>
              </a:buClr>
              <a:buSzPct val="171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peller ASM (PAS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282680" indent="-571320">
              <a:spcBef>
                <a:spcPts val="799"/>
              </a:spcBef>
              <a:buClr>
                <a:srgbClr val="000000"/>
              </a:buClr>
              <a:buSzPct val="119000"/>
              <a:buFont typeface="Gill San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st language to use for high-sp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282680" indent="-571320">
              <a:buClr>
                <a:srgbClr val="000000"/>
              </a:buClr>
              <a:buSzPct val="119000"/>
              <a:buFont typeface="Gill San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efficient access to all system registers, coun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282680" indent="-571320">
              <a:buClr>
                <a:srgbClr val="000000"/>
              </a:buClr>
              <a:buSzPct val="119000"/>
              <a:buFont typeface="Gill San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 M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38080" indent="-571320">
              <a:spcBef>
                <a:spcPts val="700"/>
              </a:spcBef>
              <a:buClr>
                <a:srgbClr val="000000"/>
              </a:buClr>
              <a:buSzPct val="171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/C+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282680" indent="-571320">
              <a:spcBef>
                <a:spcPts val="799"/>
              </a:spcBef>
              <a:buClr>
                <a:srgbClr val="000000"/>
              </a:buClr>
              <a:buSzPct val="119000"/>
              <a:buFont typeface="Gill San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source compiler in C/C++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282680" indent="-571320">
              <a:buClr>
                <a:srgbClr val="000000"/>
              </a:buClr>
              <a:buSzPct val="119000"/>
              <a:buFont typeface="Gill San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CC/GNU-compliant, open source in beta release May 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282680" indent="-571320">
              <a:buClr>
                <a:srgbClr val="000000"/>
              </a:buClr>
              <a:buSzPct val="119000"/>
              <a:buFont typeface="Gill San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e IDE and Eclipse in development (Linux, Mac, P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282680" indent="-571320">
              <a:buClr>
                <a:srgbClr val="000000"/>
              </a:buClr>
              <a:buSzPct val="119000"/>
              <a:buFont typeface="Gill San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ll-known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282680" indent="-571320">
              <a:buClr>
                <a:srgbClr val="000000"/>
              </a:buClr>
              <a:buSzPct val="119000"/>
              <a:buFont typeface="Gill San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-4 M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Rectangle 2"/>
          <p:cNvSpPr/>
          <p:nvPr/>
        </p:nvSpPr>
        <p:spPr>
          <a:xfrm>
            <a:off x="901800" y="254160"/>
            <a:ext cx="11201400" cy="14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ree Propeller Programming Languages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/>
          </p:nvPr>
        </p:nvSpPr>
        <p:spPr>
          <a:xfrm>
            <a:off x="901440" y="1549440"/>
            <a:ext cx="11201400" cy="661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38080" indent="-571320">
              <a:lnSpc>
                <a:spcPct val="90000"/>
              </a:lnSpc>
              <a:buClr>
                <a:srgbClr val="000000"/>
              </a:buClr>
              <a:buSzPct val="171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282680" indent="-57132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104000"/>
              <a:buFont typeface="Gill San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opeller has eight (8) 32-bit processors calle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282680" indent="-571320">
              <a:spcBef>
                <a:spcPts val="300"/>
              </a:spcBef>
              <a:buClr>
                <a:srgbClr val="000000"/>
              </a:buClr>
              <a:buSzPct val="104000"/>
              <a:buFont typeface="Gill San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g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un simultaneously, and have start/stop abili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38080" indent="-571320">
              <a:spcBef>
                <a:spcPts val="300"/>
              </a:spcBef>
              <a:buClr>
                <a:srgbClr val="000000"/>
              </a:buClr>
              <a:buSzPct val="171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in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282680" indent="-57132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104000"/>
              <a:buFont typeface="Gill San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in fil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ains Spin and ASM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282680" indent="-571320">
              <a:spcBef>
                <a:spcPts val="300"/>
              </a:spcBef>
              <a:buClr>
                <a:srgbClr val="000000"/>
              </a:buClr>
              <a:buSzPct val="104000"/>
              <a:buFont typeface="Gill San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s all of the pieces below: objects, methods and parame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38080" indent="-571320">
              <a:spcBef>
                <a:spcPts val="300"/>
              </a:spcBef>
              <a:buClr>
                <a:srgbClr val="000000"/>
              </a:buClr>
              <a:buSzPct val="171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b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282680" indent="-571320">
              <a:spcBef>
                <a:spcPts val="300"/>
              </a:spcBef>
              <a:buClr>
                <a:srgbClr val="000000"/>
              </a:buClr>
              <a:buSzPct val="119000"/>
              <a:buFont typeface="Gill San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cations are built with a collection of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bje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282680" indent="-571320">
              <a:spcBef>
                <a:spcPts val="300"/>
              </a:spcBef>
              <a:buClr>
                <a:srgbClr val="000000"/>
              </a:buClr>
              <a:buSzPct val="119000"/>
              <a:buFont typeface="Gill San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 application has a top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bj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38080" indent="-571320">
              <a:spcBef>
                <a:spcPts val="300"/>
              </a:spcBef>
              <a:buClr>
                <a:srgbClr val="000000"/>
              </a:buClr>
              <a:buSzPct val="171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thods (similar to C function call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282680" indent="-571320">
              <a:spcBef>
                <a:spcPts val="300"/>
              </a:spcBef>
              <a:buClr>
                <a:srgbClr val="000000"/>
              </a:buClr>
              <a:buSzPct val="119000"/>
              <a:buFont typeface="Gill San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ing blocks of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bje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282680" indent="-571320">
              <a:spcBef>
                <a:spcPts val="300"/>
              </a:spcBef>
              <a:buClr>
                <a:srgbClr val="000000"/>
              </a:buClr>
              <a:buSzPct val="119000"/>
              <a:buFont typeface="Gill San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tho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ay be called by their name within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282680" indent="-571320">
              <a:spcBef>
                <a:spcPts val="300"/>
              </a:spcBef>
              <a:buClr>
                <a:srgbClr val="000000"/>
              </a:buClr>
              <a:buSzPct val="119000"/>
              <a:buFont typeface="Gill San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 be launched into 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38080" indent="-571320">
              <a:spcBef>
                <a:spcPts val="300"/>
              </a:spcBef>
              <a:buClr>
                <a:srgbClr val="000000"/>
              </a:buClr>
              <a:buSzPct val="171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ame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282680" indent="-571320">
              <a:spcBef>
                <a:spcPts val="300"/>
              </a:spcBef>
              <a:buClr>
                <a:srgbClr val="000000"/>
              </a:buClr>
              <a:buSzPct val="119000"/>
              <a:buFont typeface="Gill San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amete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re values passed betwee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thod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bje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Rectangle 2"/>
          <p:cNvSpPr/>
          <p:nvPr/>
        </p:nvSpPr>
        <p:spPr>
          <a:xfrm>
            <a:off x="901800" y="254160"/>
            <a:ext cx="11201400" cy="14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ive Key Propeller Programming Term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e</a:t>
            </a:r>
            <a:r>
              <a:rPr b="0" lang="ja-JP" sz="3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’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ll make it easy by using examples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Rectangle 1"/>
          <p:cNvSpPr/>
          <p:nvPr/>
        </p:nvSpPr>
        <p:spPr>
          <a:xfrm>
            <a:off x="901800" y="254160"/>
            <a:ext cx="11201400" cy="14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ample 1: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mple Light Blinker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link one LED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619" name="Picture 2" descr=""/>
          <p:cNvPicPr/>
          <p:nvPr/>
        </p:nvPicPr>
        <p:blipFill>
          <a:blip r:embed="rId1"/>
          <a:stretch/>
        </p:blipFill>
        <p:spPr>
          <a:xfrm>
            <a:off x="2654280" y="1784520"/>
            <a:ext cx="8242200" cy="6181560"/>
          </a:xfrm>
          <a:prstGeom prst="rect">
            <a:avLst/>
          </a:prstGeom>
          <a:ln w="0">
            <a:noFill/>
          </a:ln>
        </p:spPr>
      </p:pic>
      <p:sp>
        <p:nvSpPr>
          <p:cNvPr id="620" name="Rectangle 3"/>
          <p:cNvSpPr/>
          <p:nvPr/>
        </p:nvSpPr>
        <p:spPr>
          <a:xfrm rot="2026800">
            <a:off x="9575280" y="495360"/>
            <a:ext cx="4241880" cy="482400"/>
          </a:xfrm>
          <a:prstGeom prst="rect">
            <a:avLst/>
          </a:prstGeom>
          <a:solidFill>
            <a:srgbClr val="ff2712"/>
          </a:solidFill>
          <a:ln w="25560">
            <a:solidFill>
              <a:srgbClr val="ff271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  <a:ea typeface="ＭＳ Ｐゴシック"/>
              </a:rPr>
              <a:t>Demonstration!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Rectangle 1"/>
          <p:cNvSpPr/>
          <p:nvPr/>
        </p:nvSpPr>
        <p:spPr>
          <a:xfrm>
            <a:off x="127080" y="-190440"/>
            <a:ext cx="12407760" cy="21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ample 3: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peller Robot with Speech, Ultrasonic and Ligh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2" name="Line 2"/>
          <p:cNvSpPr/>
          <p:nvPr/>
        </p:nvSpPr>
        <p:spPr>
          <a:xfrm>
            <a:off x="20790000" y="7201080"/>
            <a:ext cx="0" cy="196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3" name="Line 3"/>
          <p:cNvSpPr/>
          <p:nvPr/>
        </p:nvSpPr>
        <p:spPr>
          <a:xfrm>
            <a:off x="20790000" y="6438960"/>
            <a:ext cx="0" cy="196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624" name="Picture 4" descr=""/>
          <p:cNvPicPr/>
          <p:nvPr/>
        </p:nvPicPr>
        <p:blipFill>
          <a:blip r:embed="rId1"/>
          <a:stretch/>
        </p:blipFill>
        <p:spPr>
          <a:xfrm>
            <a:off x="495360" y="1663560"/>
            <a:ext cx="6548400" cy="7429680"/>
          </a:xfrm>
          <a:prstGeom prst="rect">
            <a:avLst/>
          </a:prstGeom>
          <a:ln w="0">
            <a:noFill/>
          </a:ln>
        </p:spPr>
      </p:pic>
      <p:sp>
        <p:nvSpPr>
          <p:cNvPr id="625" name="Rectangle 5"/>
          <p:cNvSpPr/>
          <p:nvPr/>
        </p:nvSpPr>
        <p:spPr>
          <a:xfrm>
            <a:off x="7378560" y="774720"/>
            <a:ext cx="5524560" cy="79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571680" indent="-57168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ilt Transmitter (1 cog)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110000"/>
              <a:buFont typeface="Helvetic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msic 2125 Accelerometer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110000"/>
              <a:buFont typeface="Helvetic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XBee 802.15.4 Transceiver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171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obot (4 cogs)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110000"/>
              <a:buFont typeface="Helvetic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wo Servo Motors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110000"/>
              <a:buFont typeface="Helvetic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XBee 802.15.4 Transceiver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110000"/>
              <a:buFont typeface="Helvetic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udio (speech) Synthesis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110000"/>
              <a:buFont typeface="Helvetic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SL230 Light Sensor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110000"/>
              <a:buFont typeface="Helvetic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ing))) Ultrasonic Sensor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171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eiver with VGA (2 cogs)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110000"/>
              <a:buFont typeface="Helvetic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XBee 802.15.4 Transceiver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110000"/>
              <a:buFont typeface="Helvetic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GA Display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Rectangle 1"/>
          <p:cNvSpPr/>
          <p:nvPr/>
        </p:nvSpPr>
        <p:spPr>
          <a:xfrm>
            <a:off x="901800" y="254160"/>
            <a:ext cx="11201400" cy="14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ample 3: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XBee Robot with Speech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lock Diagram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7" name="Rectangle 2"/>
          <p:cNvSpPr/>
          <p:nvPr/>
        </p:nvSpPr>
        <p:spPr>
          <a:xfrm>
            <a:off x="3718440" y="1878480"/>
            <a:ext cx="1617840" cy="700920"/>
          </a:xfrm>
          <a:prstGeom prst="rect">
            <a:avLst/>
          </a:prstGeom>
          <a:solidFill>
            <a:srgbClr val="00344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ilt Controller</a:t>
            </a:r>
            <a:br>
              <a:rPr sz="2400"/>
            </a:b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ropeller Multicore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8X32A Processor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8" name="Rectangle 3"/>
          <p:cNvSpPr/>
          <p:nvPr/>
        </p:nvSpPr>
        <p:spPr>
          <a:xfrm>
            <a:off x="266760" y="1905120"/>
            <a:ext cx="294624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F Communica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XBee 802.15.4 Module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9" name="Rectangle 4"/>
          <p:cNvSpPr/>
          <p:nvPr/>
        </p:nvSpPr>
        <p:spPr>
          <a:xfrm>
            <a:off x="5969160" y="1905120"/>
            <a:ext cx="294624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celerometer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msic 2125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0" name="Line 5"/>
          <p:cNvSpPr/>
          <p:nvPr/>
        </p:nvSpPr>
        <p:spPr>
          <a:xfrm>
            <a:off x="3218040" y="2260440"/>
            <a:ext cx="360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1" name="Line 6"/>
          <p:cNvSpPr/>
          <p:nvPr/>
        </p:nvSpPr>
        <p:spPr>
          <a:xfrm>
            <a:off x="5452920" y="226044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632" name="Picture 7" descr=""/>
          <p:cNvPicPr/>
          <p:nvPr/>
        </p:nvPicPr>
        <p:blipFill>
          <a:blip r:embed="rId1"/>
          <a:stretch/>
        </p:blipFill>
        <p:spPr>
          <a:xfrm rot="5315400">
            <a:off x="3786120" y="3314520"/>
            <a:ext cx="1981080" cy="1349280"/>
          </a:xfrm>
          <a:prstGeom prst="rect">
            <a:avLst/>
          </a:prstGeom>
          <a:ln w="0">
            <a:noFill/>
          </a:ln>
        </p:spPr>
      </p:pic>
      <p:sp>
        <p:nvSpPr>
          <p:cNvPr id="633" name="Rectangle 8"/>
          <p:cNvSpPr/>
          <p:nvPr/>
        </p:nvSpPr>
        <p:spPr>
          <a:xfrm>
            <a:off x="4005000" y="6297840"/>
            <a:ext cx="1981800" cy="700920"/>
          </a:xfrm>
          <a:prstGeom prst="rect">
            <a:avLst/>
          </a:prstGeom>
          <a:solidFill>
            <a:srgbClr val="00344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ropeller Boe-BOt</a:t>
            </a:r>
            <a:br>
              <a:rPr sz="2400"/>
            </a:b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ropeller Multicore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8X32A Processor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4" name="Rectangle 9"/>
          <p:cNvSpPr/>
          <p:nvPr/>
        </p:nvSpPr>
        <p:spPr>
          <a:xfrm>
            <a:off x="584280" y="6718320"/>
            <a:ext cx="294624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ltrasonic Senso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ing)))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5" name="Line 10"/>
          <p:cNvSpPr/>
          <p:nvPr/>
        </p:nvSpPr>
        <p:spPr>
          <a:xfrm>
            <a:off x="3521160" y="6286680"/>
            <a:ext cx="342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6" name="Rectangle 11"/>
          <p:cNvSpPr/>
          <p:nvPr/>
        </p:nvSpPr>
        <p:spPr>
          <a:xfrm>
            <a:off x="3441600" y="5245200"/>
            <a:ext cx="294660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F Communica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XBee 802.15.4 Module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7" name="Rectangle 12"/>
          <p:cNvSpPr/>
          <p:nvPr/>
        </p:nvSpPr>
        <p:spPr>
          <a:xfrm>
            <a:off x="3517920" y="7454880"/>
            <a:ext cx="294624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peech Synthesi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mplifier and speaker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8" name="Line 13"/>
          <p:cNvSpPr/>
          <p:nvPr/>
        </p:nvSpPr>
        <p:spPr>
          <a:xfrm>
            <a:off x="4902120" y="7129440"/>
            <a:ext cx="0" cy="295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9" name="Rectangle 14"/>
          <p:cNvSpPr/>
          <p:nvPr/>
        </p:nvSpPr>
        <p:spPr>
          <a:xfrm>
            <a:off x="584280" y="5981760"/>
            <a:ext cx="294624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ight Senso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SL 230 Light to Frequency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0" name="Line 15"/>
          <p:cNvSpPr/>
          <p:nvPr/>
        </p:nvSpPr>
        <p:spPr>
          <a:xfrm>
            <a:off x="4902120" y="5867280"/>
            <a:ext cx="0" cy="295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1" name="Line 16"/>
          <p:cNvSpPr/>
          <p:nvPr/>
        </p:nvSpPr>
        <p:spPr>
          <a:xfrm>
            <a:off x="3517920" y="7010280"/>
            <a:ext cx="341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2" name="Rectangle 17"/>
          <p:cNvSpPr/>
          <p:nvPr/>
        </p:nvSpPr>
        <p:spPr>
          <a:xfrm>
            <a:off x="6477120" y="6718320"/>
            <a:ext cx="294624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rvo Moto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utaba S-148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3" name="Rectangle 18"/>
          <p:cNvSpPr/>
          <p:nvPr/>
        </p:nvSpPr>
        <p:spPr>
          <a:xfrm>
            <a:off x="6477120" y="5981760"/>
            <a:ext cx="294624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rvo Moto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utaba S-148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4" name="Line 19"/>
          <p:cNvSpPr/>
          <p:nvPr/>
        </p:nvSpPr>
        <p:spPr>
          <a:xfrm>
            <a:off x="6121440" y="6286680"/>
            <a:ext cx="341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5" name="Line 20"/>
          <p:cNvSpPr/>
          <p:nvPr/>
        </p:nvSpPr>
        <p:spPr>
          <a:xfrm>
            <a:off x="6121440" y="7010280"/>
            <a:ext cx="341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646" name="Picture 21" descr=""/>
          <p:cNvPicPr/>
          <p:nvPr/>
        </p:nvPicPr>
        <p:blipFill>
          <a:blip r:embed="rId2"/>
          <a:stretch/>
        </p:blipFill>
        <p:spPr>
          <a:xfrm rot="20238000">
            <a:off x="7270560" y="4140000"/>
            <a:ext cx="1981080" cy="1350720"/>
          </a:xfrm>
          <a:prstGeom prst="rect">
            <a:avLst/>
          </a:prstGeom>
          <a:ln w="0">
            <a:noFill/>
          </a:ln>
        </p:spPr>
      </p:pic>
      <p:sp>
        <p:nvSpPr>
          <p:cNvPr id="647" name="Rectangle 22"/>
          <p:cNvSpPr/>
          <p:nvPr/>
        </p:nvSpPr>
        <p:spPr>
          <a:xfrm>
            <a:off x="10498680" y="3059280"/>
            <a:ext cx="1617840" cy="700920"/>
          </a:xfrm>
          <a:prstGeom prst="rect">
            <a:avLst/>
          </a:prstGeom>
          <a:solidFill>
            <a:srgbClr val="00344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Display</a:t>
            </a:r>
            <a:br>
              <a:rPr sz="2400"/>
            </a:b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ropeller Multicore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8X32A Processor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8" name="Rectangle 23"/>
          <p:cNvSpPr/>
          <p:nvPr/>
        </p:nvSpPr>
        <p:spPr>
          <a:xfrm>
            <a:off x="9842400" y="2031840"/>
            <a:ext cx="2946600" cy="609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F Communica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XBee 802.15.4 Module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9" name="Rectangle 24"/>
          <p:cNvSpPr/>
          <p:nvPr/>
        </p:nvSpPr>
        <p:spPr>
          <a:xfrm>
            <a:off x="9842400" y="4241880"/>
            <a:ext cx="294660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GA Display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600 x 800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0" name="Line 25"/>
          <p:cNvSpPr/>
          <p:nvPr/>
        </p:nvSpPr>
        <p:spPr>
          <a:xfrm>
            <a:off x="11302920" y="2641680"/>
            <a:ext cx="0" cy="295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1" name="Line 26"/>
          <p:cNvSpPr/>
          <p:nvPr/>
        </p:nvSpPr>
        <p:spPr>
          <a:xfrm>
            <a:off x="11302920" y="3894120"/>
            <a:ext cx="0" cy="374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901440" y="253800"/>
            <a:ext cx="11201400" cy="148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peller 2: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oadmap</a:t>
            </a:r>
            <a:br>
              <a:rPr sz="3600"/>
            </a:b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3" name="Picture 2" descr=""/>
          <p:cNvPicPr/>
          <p:nvPr/>
        </p:nvPicPr>
        <p:blipFill>
          <a:blip r:embed="rId1"/>
          <a:stretch/>
        </p:blipFill>
        <p:spPr>
          <a:xfrm>
            <a:off x="-1028880" y="7188120"/>
            <a:ext cx="916200" cy="1041480"/>
          </a:xfrm>
          <a:prstGeom prst="rect">
            <a:avLst/>
          </a:prstGeom>
          <a:ln w="0">
            <a:noFill/>
          </a:ln>
        </p:spPr>
      </p:pic>
      <p:sp>
        <p:nvSpPr>
          <p:cNvPr id="654" name="Line 3"/>
          <p:cNvSpPr/>
          <p:nvPr/>
        </p:nvSpPr>
        <p:spPr>
          <a:xfrm>
            <a:off x="1052640" y="1265400"/>
            <a:ext cx="0" cy="628956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5" name="Line 4"/>
          <p:cNvSpPr/>
          <p:nvPr/>
        </p:nvSpPr>
        <p:spPr>
          <a:xfrm flipH="1">
            <a:off x="1060200" y="7534440"/>
            <a:ext cx="10769400" cy="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6" name="Rectangle 5"/>
          <p:cNvSpPr/>
          <p:nvPr/>
        </p:nvSpPr>
        <p:spPr>
          <a:xfrm rot="16200000">
            <a:off x="-1069200" y="4229640"/>
            <a:ext cx="3574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perating Frequency MHz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7" name="Rectangle 6"/>
          <p:cNvSpPr/>
          <p:nvPr/>
        </p:nvSpPr>
        <p:spPr>
          <a:xfrm>
            <a:off x="5978520" y="7666920"/>
            <a:ext cx="677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AM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8" name="Rectangle 7"/>
          <p:cNvSpPr/>
          <p:nvPr/>
        </p:nvSpPr>
        <p:spPr>
          <a:xfrm>
            <a:off x="2844720" y="4267080"/>
            <a:ext cx="5803920" cy="2705400"/>
          </a:xfrm>
          <a:prstGeom prst="rect">
            <a:avLst/>
          </a:prstGeom>
          <a:gradFill rotWithShape="0">
            <a:gsLst>
              <a:gs pos="0">
                <a:srgbClr val="080a4f">
                  <a:alpha val="43137"/>
                </a:srgbClr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ropeller 1: P8X32A (released 2006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Eight (8) processors (cogs)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32-bit architecture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ystem Clock Speed: DC to 80 MHz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lobal RAM/ROM: 64 K bytes; 32 K RAM / 32K ROM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og RAM: 512 x 32 bits each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32 I/O pins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urrent source/sink per I/O: 40 mA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9" name="Rectangle 8"/>
          <p:cNvSpPr/>
          <p:nvPr/>
        </p:nvSpPr>
        <p:spPr>
          <a:xfrm>
            <a:off x="6121440" y="1308240"/>
            <a:ext cx="5803920" cy="2705040"/>
          </a:xfrm>
          <a:prstGeom prst="rect">
            <a:avLst/>
          </a:prstGeom>
          <a:gradFill rotWithShape="0">
            <a:gsLst>
              <a:gs pos="0">
                <a:srgbClr val="080a4f">
                  <a:alpha val="43137"/>
                </a:srgbClr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ropeller 2: P8XY32A (estimated 2012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Eight (8) processors (cogs)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32-bit architecture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ystem Clock Speed: DC to 180 MHz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lobal RAM/ROM: 126 K bytes; 2K ROM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og RAM: 512 x 32 bits each + 256 longs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92 I/O pins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urrent source/sink per I/O: 40 mA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0" name="Rectangle 9"/>
          <p:cNvSpPr/>
          <p:nvPr/>
        </p:nvSpPr>
        <p:spPr>
          <a:xfrm>
            <a:off x="1523880" y="1662120"/>
            <a:ext cx="7734600" cy="267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+ enhanced video 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   +  code protect 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+  more I/Os  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+  RAM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+ 10x speed increas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+ hardware mult/divide/cordic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1" name="Line 10"/>
          <p:cNvSpPr/>
          <p:nvPr/>
        </p:nvSpPr>
        <p:spPr>
          <a:xfrm flipH="1">
            <a:off x="1055160" y="6397560"/>
            <a:ext cx="1490760" cy="114624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2" name="Rectangle 11"/>
          <p:cNvSpPr/>
          <p:nvPr/>
        </p:nvSpPr>
        <p:spPr>
          <a:xfrm rot="19408800">
            <a:off x="1320480" y="6409800"/>
            <a:ext cx="10522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/O pin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692400" y="723600"/>
            <a:ext cx="6172200" cy="148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xample 4: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LEV-8 Quadcopter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ulti-rotor aircraft benefits from multicore Propelle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4" name="Picture 2" descr=""/>
          <p:cNvPicPr/>
          <p:nvPr/>
        </p:nvPicPr>
        <p:blipFill>
          <a:blip r:embed="rId1"/>
          <a:stretch/>
        </p:blipFill>
        <p:spPr>
          <a:xfrm>
            <a:off x="-1028880" y="7188120"/>
            <a:ext cx="916200" cy="1041480"/>
          </a:xfrm>
          <a:prstGeom prst="rect">
            <a:avLst/>
          </a:prstGeom>
          <a:ln w="0">
            <a:noFill/>
          </a:ln>
        </p:spPr>
      </p:pic>
      <p:sp>
        <p:nvSpPr>
          <p:cNvPr id="665" name="Rectangle 3"/>
          <p:cNvSpPr/>
          <p:nvPr/>
        </p:nvSpPr>
        <p:spPr>
          <a:xfrm>
            <a:off x="7556400" y="2336760"/>
            <a:ext cx="5054760" cy="58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79360" indent="-279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pen sourc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279360" indent="-279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eeds multicor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279360" indent="-279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yroscope inpu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279360" indent="-279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/C receiver inpu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279360" indent="-279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ltimeter inpu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279360" indent="-279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celerometer inpu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279360" indent="-279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al-time motor control via ESC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279360" indent="-279360">
              <a:lnSpc>
                <a:spcPct val="100000"/>
              </a:lnSpc>
              <a:buClr>
                <a:srgbClr val="000000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op program handles all math, variables from other cog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279360" indent="-279360">
              <a:lnSpc>
                <a:spcPct val="100000"/>
              </a:lnSpc>
              <a:buClr>
                <a:srgbClr val="000000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ll must run concurrently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6" name="Rectangle 4"/>
          <p:cNvSpPr/>
          <p:nvPr/>
        </p:nvSpPr>
        <p:spPr>
          <a:xfrm rot="2026800">
            <a:off x="9727920" y="566640"/>
            <a:ext cx="4241880" cy="482760"/>
          </a:xfrm>
          <a:prstGeom prst="rect">
            <a:avLst/>
          </a:prstGeom>
          <a:solidFill>
            <a:srgbClr val="ff2712"/>
          </a:solidFill>
          <a:ln w="25560">
            <a:solidFill>
              <a:srgbClr val="ff271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  <a:ea typeface="ＭＳ Ｐゴシック"/>
              </a:rPr>
              <a:t>Demonstration!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667" name="Picture 5" descr=""/>
          <p:cNvPicPr/>
          <p:nvPr/>
        </p:nvPicPr>
        <p:blipFill>
          <a:blip r:embed="rId2"/>
          <a:stretch/>
        </p:blipFill>
        <p:spPr>
          <a:xfrm>
            <a:off x="380880" y="152280"/>
            <a:ext cx="6870960" cy="9169560"/>
          </a:xfrm>
          <a:prstGeom prst="rect">
            <a:avLst/>
          </a:prstGeom>
          <a:ln w="0">
            <a:noFill/>
          </a:ln>
        </p:spPr>
      </p:pic>
      <p:pic>
        <p:nvPicPr>
          <p:cNvPr id="668" name="Picture 6" descr=""/>
          <p:cNvPicPr/>
          <p:nvPr/>
        </p:nvPicPr>
        <p:blipFill>
          <a:blip r:embed="rId3"/>
          <a:stretch/>
        </p:blipFill>
        <p:spPr>
          <a:xfrm>
            <a:off x="10947240" y="2336760"/>
            <a:ext cx="1806840" cy="14860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Ken Gracey</cp:lastModifiedBy>
  <dcterms:modified xsi:type="dcterms:W3CDTF">2012-05-27T14:18:03Z</dcterms:modified>
  <cp:revision>2</cp:revision>
  <dc:subject/>
  <dc:title>PowerPoint Presentation</dc:title>
</cp:coreProperties>
</file>