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35B4-AEC3-4FF7-8026-D6510533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52BF-C350-488B-8A14-37C6D88A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6B8E-BFF3-4F4E-B579-53F23D068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4888-8541-4AD7-8693-B92AE0457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8618-3B99-4D13-AAD9-1AB69AB3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288B-4533-4D18-805C-88CA7063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328B-B819-400A-83FB-10CA6B7A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9E1C-7F6F-4431-9D24-1DAB5D8D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CF41-B951-431A-B7CF-F5AAD75D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EA1D-020F-467A-B93C-036135C0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66DA-46F5-48B7-8F1E-35371158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839F-9FC9-45D3-BC05-D3CFB918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787F-A496-4A33-9183-F0666DB0D768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L8712(8188_8191_8192SU) USB Linux Driver Quick Installation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oftware Pack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linux driver (source c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 support linux kernel version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-Based Linux platform (i3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12 USB Linux driver supports Linux kernel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rom 2.6.18 ~ 2.6.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- TO: Setting up Linux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emonstration based on Linux Fedora 2.6.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make 8712 USB Linux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1) step1: uncompress the “rtl8712_8188_8191_8192SU_usb_linux_v2.6.xxxx.2010xxxx.tar.gz” file. (in “driver” direc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tar zxvf</a:t>
            </a:r>
            <a:r>
              <a:rPr b="0" i="1" lang="zh-TW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rtl8712_8188_8191_8192SU_usb_linux_v2.6.0006.20100226.tar.g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make 8712 USB driver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3) step3: clean the operation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./c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4) step4: insert 8712 USB mod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insmod 8712u.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5) step5: enable wlan0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wlan0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6) step6: setup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fconfig wlan0 192.168.1.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art 2: Site Survey &amp; connect to AP without sec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1: Sit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list wlan0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Connect t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config wlan0 essid “xx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connect to AP using "Network Manager" GUI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Network Manager is a utility attempts to make use of wireless networking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please disable the “Network Manager” when using command-line method to connect to AP, because the “Network Manager” will conflict with the method of comman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6:25:06Z</dcterms:created>
  <dc:creator>TIGER-XP</dc:creator>
  <dc:description/>
  <dc:language>en-US</dc:language>
  <cp:lastModifiedBy>albert_wang</cp:lastModifiedBy>
  <dcterms:modified xsi:type="dcterms:W3CDTF">2010-02-26T08:11:27Z</dcterms:modified>
  <cp:revision>91</cp:revision>
  <dc:subject/>
  <dc:title>投影片 1</dc:title>
</cp:coreProperties>
</file>