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8C6-B5B2-41F5-AD75-8015474B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9E2-A949-4811-8935-C8FF659F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416-0887-4D82-B77F-579679B9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1D6-2718-42EF-8B7C-DBAB15B2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9DE9-B3B6-426A-AB5A-4429A46B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64E-48C9-448B-8DC8-FE956603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1A6-9A69-4BA8-BE2E-1438D305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01D3-3DC2-437B-86CA-92B1ADEC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010-F06C-42EA-A410-62592113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207-F284-48D0-BF34-F038E7C8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AA3-D202-4DD9-B540-9C1A9E89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08D5-ECD4-43EE-95E0-29F8F129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64879-CDCF-48F0-9D40-FFF16972D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Arial"/>
              </a:rPr>
              <a:t>Return To The Mo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Design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July 1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657240" y="4724280"/>
            <a:ext cx="217260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uis Bi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shua Eli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son F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mitha</a:t>
            </a:r>
            <a:r>
              <a:rPr b="0" lang="en-GB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Picture 6" descr="C:\Documents and Settings\Owner\My Documents\QuadRover\Slide Header.jpg"/>
          <p:cNvPicPr/>
          <p:nvPr/>
        </p:nvPicPr>
        <p:blipFill>
          <a:blip r:embed="rId1"/>
          <a:stretch/>
        </p:blipFill>
        <p:spPr>
          <a:xfrm>
            <a:off x="1447920" y="304920"/>
            <a:ext cx="660708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rallax Propeller Microcontrol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crocontroller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3V input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 processors (co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2 bit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ck speed up to 8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2 general purpose I/O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2KB RAM / 32KB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mA per I/O pin max, 25mA recommended, 300mA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s Assembly and Spi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:\Documents and Settings\Owner\My Documents\QuadRover\PropellerChip.jpg"/>
          <p:cNvPicPr/>
          <p:nvPr/>
        </p:nvPicPr>
        <p:blipFill>
          <a:blip r:embed="rId1"/>
          <a:stretch/>
        </p:blipFill>
        <p:spPr>
          <a:xfrm>
            <a:off x="5181480" y="1828800"/>
            <a:ext cx="3622680" cy="3600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5722560" y="5486400"/>
            <a:ext cx="27424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llax Propeller Pin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eller Block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:\Documents and Settings\Owner\My Documents\QuadRover\PropellerOrg.jpg"/>
          <p:cNvPicPr/>
          <p:nvPr/>
        </p:nvPicPr>
        <p:blipFill>
          <a:blip r:embed="rId1"/>
          <a:stretch/>
        </p:blipFill>
        <p:spPr>
          <a:xfrm>
            <a:off x="152280" y="1104840"/>
            <a:ext cx="884736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31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 Transm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voltage: 9.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drain: 170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: 2.4G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s brakes, thrott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hydraulic soleno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809880" y="990720"/>
            <a:ext cx="5181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 Rece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ly voltage: 5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drain: 80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 Chan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s 3 serv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ft brake, Right brake, Thrott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grammable signal loss oper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ntains 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ault 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Picture 7" descr="C:\Documents and Settings\Owner\My Documents\QuadRover\transmitter.jpg"/>
          <p:cNvPicPr/>
          <p:nvPr/>
        </p:nvPicPr>
        <p:blipFill>
          <a:blip r:embed="rId1"/>
          <a:stretch/>
        </p:blipFill>
        <p:spPr>
          <a:xfrm>
            <a:off x="1066680" y="4191120"/>
            <a:ext cx="2789280" cy="2320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Documents and Settings\Owner\My Documents\QuadRover\Receiver.jpg"/>
          <p:cNvPicPr/>
          <p:nvPr/>
        </p:nvPicPr>
        <p:blipFill>
          <a:blip r:embed="rId2"/>
          <a:stretch/>
        </p:blipFill>
        <p:spPr>
          <a:xfrm>
            <a:off x="5257800" y="4511520"/>
            <a:ext cx="2274840" cy="21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31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mote Control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signals from RC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Left/Right brake and Thro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solenoid va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ast can the robot trave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errain can the robot travers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the robot traverse a type of terra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easily can it do a zero turn radius maneu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range of the transmitt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controller can act as a kill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dio Bea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rad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vely low power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eat area of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mni-dire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for mobile robotic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moving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e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on is radio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180400" y="6053040"/>
            <a:ext cx="378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ilateration Position Determi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6" descr="C:\Documents and Settings\Owner\My Documents\QuadRover\trilateration.jpg"/>
          <p:cNvPicPr/>
          <p:nvPr/>
        </p:nvPicPr>
        <p:blipFill>
          <a:blip r:embed="rId1"/>
          <a:stretch/>
        </p:blipFill>
        <p:spPr>
          <a:xfrm>
            <a:off x="5897520" y="2743200"/>
            <a:ext cx="301788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ltra Wideband Ra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Domain PulsON 210 UWB Ra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ng frequency: 4.7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: 7.5V, ~1A, 6.5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ze: 4” x 6” x 2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nge of op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gu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 1-2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DP ether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nge: 100 met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osition accuracy: ~1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field radi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Update rate: ~8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rover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C:\Documents and Settings\Owner\My Documents\QuadRover\TDRadio.jpg"/>
          <p:cNvPicPr/>
          <p:nvPr/>
        </p:nvPicPr>
        <p:blipFill>
          <a:blip r:embed="rId1"/>
          <a:stretch/>
        </p:blipFill>
        <p:spPr>
          <a:xfrm>
            <a:off x="5638680" y="1981080"/>
            <a:ext cx="2971800" cy="313236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5797440" y="2133720"/>
            <a:ext cx="1473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o Bea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stacle Avoi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334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 unknown obsta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o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far away is the o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of change of dist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object’s ext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:\Documents and Settings\Owner\My Documents\QuadRover\MoonRock.jpg"/>
          <p:cNvPicPr/>
          <p:nvPr/>
        </p:nvPicPr>
        <p:blipFill>
          <a:blip r:embed="rId1"/>
          <a:stretch/>
        </p:blipFill>
        <p:spPr>
          <a:xfrm>
            <a:off x="5668920" y="1905120"/>
            <a:ext cx="3246480" cy="33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31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CK LA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y voltage: 24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power: 3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temp: 0ºC to +50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al comm: 9600 - 56k ba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 angle: 180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ular resolution: 0.5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70mm out to 50m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can every 80ms (12.5 H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:\Documents and Settings\Owner\My Documents\QuadRover\SICK.jpg"/>
          <p:cNvPicPr/>
          <p:nvPr/>
        </p:nvPicPr>
        <p:blipFill>
          <a:blip r:embed="rId1"/>
          <a:stretch/>
        </p:blipFill>
        <p:spPr>
          <a:xfrm>
            <a:off x="5943600" y="1295280"/>
            <a:ext cx="2789280" cy="3292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6788160" y="4648320"/>
            <a:ext cx="15462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er Ran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310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el Enco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5791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tted Switch Position En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 of emitting di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NPN photo-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mm lead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ntact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Di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Current: 10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 Voltage: 3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Phototransis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or Current: 100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tter-Collector Voltage: 0.4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or-Emitter Voltage: 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402240" y="4876920"/>
            <a:ext cx="19591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oto-Interrup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otted Swit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6" descr="C:\Documents and Settings\Owner\My Documents\QuadRover\photointerrupter.jpg"/>
          <p:cNvPicPr/>
          <p:nvPr/>
        </p:nvPicPr>
        <p:blipFill>
          <a:blip r:embed="rId1"/>
          <a:stretch/>
        </p:blipFill>
        <p:spPr>
          <a:xfrm>
            <a:off x="5486400" y="2133720"/>
            <a:ext cx="3657600" cy="262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ditional Power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31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 of LM2576 series (DC-DC Conver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V – 40V input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2576T-12, -5, 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V input; 12V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V input; 5V and 3.3V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d 3A output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only 4 external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eat sink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s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readily available standard indu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C:\Documents and Settings\Owner\My Documents\QuadRover\Regulator.jpg"/>
          <p:cNvPicPr/>
          <p:nvPr/>
        </p:nvPicPr>
        <p:blipFill>
          <a:blip r:embed="rId1"/>
          <a:stretch/>
        </p:blipFill>
        <p:spPr>
          <a:xfrm>
            <a:off x="6324480" y="1752480"/>
            <a:ext cx="2422800" cy="2136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C:\Documents and Settings\Owner\My Documents\QuadRover\RegCircuit.jpg"/>
          <p:cNvPicPr/>
          <p:nvPr/>
        </p:nvPicPr>
        <p:blipFill>
          <a:blip r:embed="rId2"/>
          <a:stretch/>
        </p:blipFill>
        <p:spPr>
          <a:xfrm>
            <a:off x="4800600" y="4114800"/>
            <a:ext cx="4046400" cy="18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al P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310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wer Supply Schema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C:\Documents and Settings\Owner\My Documents\QuadRover\DC-DC Triple Power Supply.jpg"/>
          <p:cNvPicPr/>
          <p:nvPr/>
        </p:nvPicPr>
        <p:blipFill>
          <a:blip r:embed="rId1"/>
          <a:stretch/>
        </p:blipFill>
        <p:spPr>
          <a:xfrm>
            <a:off x="1752480" y="990720"/>
            <a:ext cx="6248520" cy="55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ptop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ptop will be used if the Propeller microcontroller is not powerful enough to handle our navigation and interfac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top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for faster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to interface with the radios and L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programmed in C or C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logging is much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31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crocontroller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7" descr="C:\Documents and Settings\Owner\My Documents\QuadRover\MicroInterfaces.jpg"/>
          <p:cNvPicPr/>
          <p:nvPr/>
        </p:nvPicPr>
        <p:blipFill>
          <a:blip r:embed="rId1"/>
          <a:stretch/>
        </p:blipFill>
        <p:spPr>
          <a:xfrm>
            <a:off x="533520" y="1600200"/>
            <a:ext cx="8092800" cy="4525920"/>
          </a:xfrm>
          <a:prstGeom prst="rect">
            <a:avLst/>
          </a:prstGeom>
          <a:ln w="19080">
            <a:solidFill>
              <a:srgbClr val="0d0d0d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n Of Action / Project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 Control of Rob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to RC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robots locomotion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robot to the radio beac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to Ultra Wideband radio system to get position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point navigation with no obsta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software to determine how to make the robot move from waypoint A to waypoint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bstacles will be in the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point navigation with known obsta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ill implement Fuzzy controls to compute how to traveling to a waypoint and avoid an obsta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point navigation with unknown obsta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to LADAR sensor to detect any unknown obstacles and avoid according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d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800600" y="5410080"/>
            <a:ext cx="41911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- This is the price for one radio on the robot.  The system uses 4 more for positionin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676520" y="3886200"/>
            <a:ext cx="624816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ttery Tot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  7 Amp-Hou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Worse case:      30 min  (running laptop off batter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ominal case:    3 hr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Group 189"/>
          <p:cNvGrpSpPr/>
          <p:nvPr/>
        </p:nvGrpSpPr>
        <p:grpSpPr>
          <a:xfrm>
            <a:off x="1219320" y="1143000"/>
            <a:ext cx="7086240" cy="2590560"/>
            <a:chOff x="1219320" y="1143000"/>
            <a:chExt cx="7086240" cy="2590560"/>
          </a:xfrm>
        </p:grpSpPr>
        <p:sp>
          <p:nvSpPr>
            <p:cNvPr id="117" name="AutoShape 116"/>
            <p:cNvSpPr/>
            <p:nvPr/>
          </p:nvSpPr>
          <p:spPr>
            <a:xfrm>
              <a:off x="1219320" y="1143000"/>
              <a:ext cx="7086240" cy="25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118"/>
            <p:cNvSpPr/>
            <p:nvPr/>
          </p:nvSpPr>
          <p:spPr>
            <a:xfrm>
              <a:off x="1272960" y="1171440"/>
              <a:ext cx="861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Rectangle 119"/>
            <p:cNvSpPr/>
            <p:nvPr/>
          </p:nvSpPr>
          <p:spPr>
            <a:xfrm>
              <a:off x="3609000" y="1171440"/>
              <a:ext cx="8661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ltage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Rectangle 120"/>
            <p:cNvSpPr/>
            <p:nvPr/>
          </p:nvSpPr>
          <p:spPr>
            <a:xfrm>
              <a:off x="4771800" y="1171440"/>
              <a:ext cx="825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Rectangle 121"/>
            <p:cNvSpPr/>
            <p:nvPr/>
          </p:nvSpPr>
          <p:spPr>
            <a:xfrm>
              <a:off x="6091920" y="1171440"/>
              <a:ext cx="6865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Rectangle 122"/>
            <p:cNvSpPr/>
            <p:nvPr/>
          </p:nvSpPr>
          <p:spPr>
            <a:xfrm>
              <a:off x="7430400" y="1171440"/>
              <a:ext cx="5083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Rectangle 123"/>
            <p:cNvSpPr/>
            <p:nvPr/>
          </p:nvSpPr>
          <p:spPr>
            <a:xfrm>
              <a:off x="1272960" y="1457640"/>
              <a:ext cx="12960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d Ro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Rectangle 124"/>
            <p:cNvSpPr/>
            <p:nvPr/>
          </p:nvSpPr>
          <p:spPr>
            <a:xfrm>
              <a:off x="4037760" y="1457640"/>
              <a:ext cx="9504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Rectangle 125"/>
            <p:cNvSpPr/>
            <p:nvPr/>
          </p:nvSpPr>
          <p:spPr>
            <a:xfrm>
              <a:off x="5180400" y="1457640"/>
              <a:ext cx="1530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126"/>
            <p:cNvSpPr/>
            <p:nvPr/>
          </p:nvSpPr>
          <p:spPr>
            <a:xfrm>
              <a:off x="6412320" y="1457640"/>
              <a:ext cx="1530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Rectangle 127"/>
            <p:cNvSpPr/>
            <p:nvPr/>
          </p:nvSpPr>
          <p:spPr>
            <a:xfrm>
              <a:off x="7162560" y="1447920"/>
              <a:ext cx="9255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d0d0d"/>
                  </a:solidFill>
                  <a:latin typeface="Arial"/>
                </a:rPr>
                <a:t>$  </a:t>
              </a:r>
              <a:r>
                <a:rPr b="1" lang="en-US" sz="1800" spc="-1" strike="noStrike">
                  <a:solidFill>
                    <a:srgbClr val="0d0d0d"/>
                  </a:solidFill>
                  <a:latin typeface="Arial"/>
                </a:rPr>
                <a:t>5,5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Rectangle 128"/>
            <p:cNvSpPr/>
            <p:nvPr/>
          </p:nvSpPr>
          <p:spPr>
            <a:xfrm>
              <a:off x="1271520" y="1743840"/>
              <a:ext cx="17154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eller Boar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Rectangle 129"/>
            <p:cNvSpPr/>
            <p:nvPr/>
          </p:nvSpPr>
          <p:spPr>
            <a:xfrm>
              <a:off x="3860640" y="1743840"/>
              <a:ext cx="4701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3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130"/>
            <p:cNvSpPr/>
            <p:nvPr/>
          </p:nvSpPr>
          <p:spPr>
            <a:xfrm>
              <a:off x="4932000" y="1743840"/>
              <a:ext cx="6210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131"/>
            <p:cNvSpPr/>
            <p:nvPr/>
          </p:nvSpPr>
          <p:spPr>
            <a:xfrm>
              <a:off x="6038640" y="1743840"/>
              <a:ext cx="7869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132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Rectangle 132"/>
            <p:cNvSpPr/>
            <p:nvPr/>
          </p:nvSpPr>
          <p:spPr>
            <a:xfrm>
              <a:off x="7644240" y="1743840"/>
              <a:ext cx="1530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133"/>
            <p:cNvSpPr/>
            <p:nvPr/>
          </p:nvSpPr>
          <p:spPr>
            <a:xfrm>
              <a:off x="1272600" y="2030040"/>
              <a:ext cx="13327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ck LAD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Rectangle 134"/>
            <p:cNvSpPr/>
            <p:nvPr/>
          </p:nvSpPr>
          <p:spPr>
            <a:xfrm>
              <a:off x="3896640" y="2030040"/>
              <a:ext cx="4060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4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Rectangle 135"/>
            <p:cNvSpPr/>
            <p:nvPr/>
          </p:nvSpPr>
          <p:spPr>
            <a:xfrm>
              <a:off x="4932000" y="2030040"/>
              <a:ext cx="6087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25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Rectangle 136"/>
            <p:cNvSpPr/>
            <p:nvPr/>
          </p:nvSpPr>
          <p:spPr>
            <a:xfrm>
              <a:off x="6216840" y="2030040"/>
              <a:ext cx="4701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Rectangle 137"/>
            <p:cNvSpPr/>
            <p:nvPr/>
          </p:nvSpPr>
          <p:spPr>
            <a:xfrm>
              <a:off x="7377120" y="2030040"/>
              <a:ext cx="6483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$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,2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Rectangle 138"/>
            <p:cNvSpPr/>
            <p:nvPr/>
          </p:nvSpPr>
          <p:spPr>
            <a:xfrm>
              <a:off x="1272600" y="2316600"/>
              <a:ext cx="14364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 Doma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Rectangle 139"/>
            <p:cNvSpPr/>
            <p:nvPr/>
          </p:nvSpPr>
          <p:spPr>
            <a:xfrm>
              <a:off x="3860640" y="2316600"/>
              <a:ext cx="4701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.5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Rectangle 140"/>
            <p:cNvSpPr/>
            <p:nvPr/>
          </p:nvSpPr>
          <p:spPr>
            <a:xfrm>
              <a:off x="4879440" y="2285280"/>
              <a:ext cx="735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866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Rectangle 141"/>
            <p:cNvSpPr/>
            <p:nvPr/>
          </p:nvSpPr>
          <p:spPr>
            <a:xfrm>
              <a:off x="6180120" y="2316600"/>
              <a:ext cx="5342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.5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Rectangle 142"/>
            <p:cNvSpPr/>
            <p:nvPr/>
          </p:nvSpPr>
          <p:spPr>
            <a:xfrm>
              <a:off x="7391520" y="2285280"/>
              <a:ext cx="7030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$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*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Rectangle 143"/>
            <p:cNvSpPr/>
            <p:nvPr/>
          </p:nvSpPr>
          <p:spPr>
            <a:xfrm>
              <a:off x="1271160" y="2602800"/>
              <a:ext cx="7642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pto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144"/>
            <p:cNvSpPr/>
            <p:nvPr/>
          </p:nvSpPr>
          <p:spPr>
            <a:xfrm>
              <a:off x="3789720" y="2602800"/>
              <a:ext cx="5965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.5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Rectangle 145"/>
            <p:cNvSpPr/>
            <p:nvPr/>
          </p:nvSpPr>
          <p:spPr>
            <a:xfrm>
              <a:off x="4932000" y="2602800"/>
              <a:ext cx="6087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62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Rectangle 146"/>
            <p:cNvSpPr/>
            <p:nvPr/>
          </p:nvSpPr>
          <p:spPr>
            <a:xfrm>
              <a:off x="6216840" y="2602800"/>
              <a:ext cx="4701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0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Rectangle 147"/>
            <p:cNvSpPr/>
            <p:nvPr/>
          </p:nvSpPr>
          <p:spPr>
            <a:xfrm>
              <a:off x="7590960" y="2602800"/>
              <a:ext cx="4579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$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Rectangle 148"/>
            <p:cNvSpPr/>
            <p:nvPr/>
          </p:nvSpPr>
          <p:spPr>
            <a:xfrm>
              <a:off x="1274760" y="2889000"/>
              <a:ext cx="15840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lerome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149"/>
            <p:cNvSpPr/>
            <p:nvPr/>
          </p:nvSpPr>
          <p:spPr>
            <a:xfrm>
              <a:off x="3967560" y="2889000"/>
              <a:ext cx="2797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Rectangle 150"/>
            <p:cNvSpPr/>
            <p:nvPr/>
          </p:nvSpPr>
          <p:spPr>
            <a:xfrm>
              <a:off x="5004000" y="2889000"/>
              <a:ext cx="4946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Rectangle 151"/>
            <p:cNvSpPr/>
            <p:nvPr/>
          </p:nvSpPr>
          <p:spPr>
            <a:xfrm>
              <a:off x="6038640" y="2889000"/>
              <a:ext cx="7869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025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152"/>
            <p:cNvSpPr/>
            <p:nvPr/>
          </p:nvSpPr>
          <p:spPr>
            <a:xfrm>
              <a:off x="7773480" y="2896200"/>
              <a:ext cx="25380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153"/>
            <p:cNvSpPr/>
            <p:nvPr/>
          </p:nvSpPr>
          <p:spPr>
            <a:xfrm>
              <a:off x="1272240" y="3461400"/>
              <a:ext cx="5479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Rectangle 154"/>
            <p:cNvSpPr/>
            <p:nvPr/>
          </p:nvSpPr>
          <p:spPr>
            <a:xfrm>
              <a:off x="4861440" y="3461400"/>
              <a:ext cx="735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.781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Rectangle 155"/>
            <p:cNvSpPr/>
            <p:nvPr/>
          </p:nvSpPr>
          <p:spPr>
            <a:xfrm>
              <a:off x="5966640" y="3461400"/>
              <a:ext cx="9136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6.66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156"/>
            <p:cNvSpPr/>
            <p:nvPr/>
          </p:nvSpPr>
          <p:spPr>
            <a:xfrm>
              <a:off x="7239600" y="3461400"/>
              <a:ext cx="8877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d0d0d"/>
                  </a:solidFill>
                  <a:latin typeface="Arial"/>
                </a:rPr>
                <a:t>$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,3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157"/>
            <p:cNvSpPr/>
            <p:nvPr/>
          </p:nvSpPr>
          <p:spPr>
            <a:xfrm>
              <a:off x="1219320" y="1143000"/>
              <a:ext cx="706788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158"/>
            <p:cNvSpPr/>
            <p:nvPr/>
          </p:nvSpPr>
          <p:spPr>
            <a:xfrm>
              <a:off x="1219320" y="1143000"/>
              <a:ext cx="70678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159"/>
            <p:cNvSpPr/>
            <p:nvPr/>
          </p:nvSpPr>
          <p:spPr>
            <a:xfrm>
              <a:off x="1219320" y="1428840"/>
              <a:ext cx="7067880" cy="25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160"/>
            <p:cNvSpPr/>
            <p:nvPr/>
          </p:nvSpPr>
          <p:spPr>
            <a:xfrm>
              <a:off x="1219320" y="1428840"/>
              <a:ext cx="7067880" cy="14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161"/>
            <p:cNvSpPr/>
            <p:nvPr/>
          </p:nvSpPr>
          <p:spPr>
            <a:xfrm>
              <a:off x="1219320" y="1715040"/>
              <a:ext cx="7067880" cy="25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Rectangle 162"/>
            <p:cNvSpPr/>
            <p:nvPr/>
          </p:nvSpPr>
          <p:spPr>
            <a:xfrm>
              <a:off x="1219320" y="1715040"/>
              <a:ext cx="7067880" cy="14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163"/>
            <p:cNvSpPr/>
            <p:nvPr/>
          </p:nvSpPr>
          <p:spPr>
            <a:xfrm>
              <a:off x="1219320" y="2001960"/>
              <a:ext cx="706788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164"/>
            <p:cNvSpPr/>
            <p:nvPr/>
          </p:nvSpPr>
          <p:spPr>
            <a:xfrm>
              <a:off x="1219320" y="2001960"/>
              <a:ext cx="70678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165"/>
            <p:cNvSpPr/>
            <p:nvPr/>
          </p:nvSpPr>
          <p:spPr>
            <a:xfrm>
              <a:off x="1219320" y="2288160"/>
              <a:ext cx="706788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Rectangle 166"/>
            <p:cNvSpPr/>
            <p:nvPr/>
          </p:nvSpPr>
          <p:spPr>
            <a:xfrm>
              <a:off x="1219320" y="2288160"/>
              <a:ext cx="70678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167"/>
            <p:cNvSpPr/>
            <p:nvPr/>
          </p:nvSpPr>
          <p:spPr>
            <a:xfrm>
              <a:off x="1219320" y="2574360"/>
              <a:ext cx="706788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68"/>
            <p:cNvSpPr/>
            <p:nvPr/>
          </p:nvSpPr>
          <p:spPr>
            <a:xfrm>
              <a:off x="1219320" y="2574360"/>
              <a:ext cx="70678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169"/>
            <p:cNvSpPr/>
            <p:nvPr/>
          </p:nvSpPr>
          <p:spPr>
            <a:xfrm>
              <a:off x="1219320" y="2860560"/>
              <a:ext cx="706788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Rectangle 170"/>
            <p:cNvSpPr/>
            <p:nvPr/>
          </p:nvSpPr>
          <p:spPr>
            <a:xfrm>
              <a:off x="1219320" y="2860560"/>
              <a:ext cx="70678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171"/>
            <p:cNvSpPr/>
            <p:nvPr/>
          </p:nvSpPr>
          <p:spPr>
            <a:xfrm>
              <a:off x="1219320" y="3146760"/>
              <a:ext cx="7067880" cy="25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Rectangle 172"/>
            <p:cNvSpPr/>
            <p:nvPr/>
          </p:nvSpPr>
          <p:spPr>
            <a:xfrm>
              <a:off x="1219320" y="3146760"/>
              <a:ext cx="7067880" cy="14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Line 173"/>
            <p:cNvSpPr/>
            <p:nvPr/>
          </p:nvSpPr>
          <p:spPr>
            <a:xfrm>
              <a:off x="1219320" y="3432600"/>
              <a:ext cx="7067880" cy="25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Rectangle 174"/>
            <p:cNvSpPr/>
            <p:nvPr/>
          </p:nvSpPr>
          <p:spPr>
            <a:xfrm>
              <a:off x="1219320" y="3432600"/>
              <a:ext cx="7067880" cy="14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175"/>
            <p:cNvSpPr/>
            <p:nvPr/>
          </p:nvSpPr>
          <p:spPr>
            <a:xfrm>
              <a:off x="1219320" y="3719520"/>
              <a:ext cx="706788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176"/>
            <p:cNvSpPr/>
            <p:nvPr/>
          </p:nvSpPr>
          <p:spPr>
            <a:xfrm>
              <a:off x="1219320" y="3719520"/>
              <a:ext cx="706788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177"/>
            <p:cNvSpPr/>
            <p:nvPr/>
          </p:nvSpPr>
          <p:spPr>
            <a:xfrm>
              <a:off x="1219320" y="1143000"/>
              <a:ext cx="2520" cy="25905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Rectangle 178"/>
            <p:cNvSpPr/>
            <p:nvPr/>
          </p:nvSpPr>
          <p:spPr>
            <a:xfrm>
              <a:off x="1219320" y="1143000"/>
              <a:ext cx="17280" cy="2590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179"/>
            <p:cNvSpPr/>
            <p:nvPr/>
          </p:nvSpPr>
          <p:spPr>
            <a:xfrm>
              <a:off x="3539160" y="1143000"/>
              <a:ext cx="3240" cy="25905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180"/>
            <p:cNvSpPr/>
            <p:nvPr/>
          </p:nvSpPr>
          <p:spPr>
            <a:xfrm>
              <a:off x="3539160" y="1143000"/>
              <a:ext cx="18000" cy="2590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181"/>
            <p:cNvSpPr/>
            <p:nvPr/>
          </p:nvSpPr>
          <p:spPr>
            <a:xfrm>
              <a:off x="4682160" y="1143000"/>
              <a:ext cx="2520" cy="25905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182"/>
            <p:cNvSpPr/>
            <p:nvPr/>
          </p:nvSpPr>
          <p:spPr>
            <a:xfrm>
              <a:off x="4682160" y="1143000"/>
              <a:ext cx="17280" cy="2590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183"/>
            <p:cNvSpPr/>
            <p:nvPr/>
          </p:nvSpPr>
          <p:spPr>
            <a:xfrm>
              <a:off x="5824080" y="1143000"/>
              <a:ext cx="2520" cy="25905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Rectangle 184"/>
            <p:cNvSpPr/>
            <p:nvPr/>
          </p:nvSpPr>
          <p:spPr>
            <a:xfrm>
              <a:off x="5824080" y="1143000"/>
              <a:ext cx="17280" cy="2590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185"/>
            <p:cNvSpPr/>
            <p:nvPr/>
          </p:nvSpPr>
          <p:spPr>
            <a:xfrm>
              <a:off x="7144920" y="1143000"/>
              <a:ext cx="2520" cy="25905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186"/>
            <p:cNvSpPr/>
            <p:nvPr/>
          </p:nvSpPr>
          <p:spPr>
            <a:xfrm>
              <a:off x="7144920" y="1143000"/>
              <a:ext cx="17280" cy="2590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Line 187"/>
            <p:cNvSpPr/>
            <p:nvPr/>
          </p:nvSpPr>
          <p:spPr>
            <a:xfrm>
              <a:off x="8287200" y="1143000"/>
              <a:ext cx="3240" cy="25905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188"/>
            <p:cNvSpPr/>
            <p:nvPr/>
          </p:nvSpPr>
          <p:spPr>
            <a:xfrm>
              <a:off x="8287200" y="1143000"/>
              <a:ext cx="18000" cy="2590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9"/>
          <p:cNvSpPr/>
          <p:nvPr/>
        </p:nvSpPr>
        <p:spPr>
          <a:xfrm>
            <a:off x="1143000" y="1676520"/>
            <a:ext cx="693432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1184400" y="1706400"/>
            <a:ext cx="5205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42"/>
          <p:cNvSpPr/>
          <p:nvPr/>
        </p:nvSpPr>
        <p:spPr>
          <a:xfrm>
            <a:off x="3978720" y="1706400"/>
            <a:ext cx="989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e 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43"/>
          <p:cNvSpPr/>
          <p:nvPr/>
        </p:nvSpPr>
        <p:spPr>
          <a:xfrm>
            <a:off x="5186880" y="1706400"/>
            <a:ext cx="13449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44"/>
          <p:cNvSpPr/>
          <p:nvPr/>
        </p:nvSpPr>
        <p:spPr>
          <a:xfrm>
            <a:off x="1183680" y="2003400"/>
            <a:ext cx="19195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sibili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45"/>
          <p:cNvSpPr/>
          <p:nvPr/>
        </p:nvSpPr>
        <p:spPr>
          <a:xfrm>
            <a:off x="3894480" y="2003400"/>
            <a:ext cx="8373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 JU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46"/>
          <p:cNvSpPr/>
          <p:nvPr/>
        </p:nvSpPr>
        <p:spPr>
          <a:xfrm>
            <a:off x="5185080" y="2003400"/>
            <a:ext cx="277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Point 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47"/>
          <p:cNvSpPr/>
          <p:nvPr/>
        </p:nvSpPr>
        <p:spPr>
          <a:xfrm>
            <a:off x="5185800" y="2300400"/>
            <a:ext cx="17668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Docu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48"/>
          <p:cNvSpPr/>
          <p:nvPr/>
        </p:nvSpPr>
        <p:spPr>
          <a:xfrm>
            <a:off x="1184040" y="2598840"/>
            <a:ext cx="22104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49"/>
          <p:cNvSpPr/>
          <p:nvPr/>
        </p:nvSpPr>
        <p:spPr>
          <a:xfrm>
            <a:off x="3908520" y="2598840"/>
            <a:ext cx="7491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 JU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50"/>
          <p:cNvSpPr/>
          <p:nvPr/>
        </p:nvSpPr>
        <p:spPr>
          <a:xfrm>
            <a:off x="5185080" y="2598840"/>
            <a:ext cx="277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Point 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51"/>
          <p:cNvSpPr/>
          <p:nvPr/>
        </p:nvSpPr>
        <p:spPr>
          <a:xfrm>
            <a:off x="1184040" y="2895480"/>
            <a:ext cx="2743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typ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Demonst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52"/>
          <p:cNvSpPr/>
          <p:nvPr/>
        </p:nvSpPr>
        <p:spPr>
          <a:xfrm>
            <a:off x="4038480" y="2895480"/>
            <a:ext cx="4701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3"/>
          <p:cNvSpPr/>
          <p:nvPr/>
        </p:nvSpPr>
        <p:spPr>
          <a:xfrm>
            <a:off x="5186160" y="2895480"/>
            <a:ext cx="24390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otic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54"/>
          <p:cNvSpPr/>
          <p:nvPr/>
        </p:nvSpPr>
        <p:spPr>
          <a:xfrm>
            <a:off x="5185080" y="3192480"/>
            <a:ext cx="27712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Point 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55"/>
          <p:cNvSpPr/>
          <p:nvPr/>
        </p:nvSpPr>
        <p:spPr>
          <a:xfrm>
            <a:off x="1183320" y="3489480"/>
            <a:ext cx="19836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56"/>
          <p:cNvSpPr/>
          <p:nvPr/>
        </p:nvSpPr>
        <p:spPr>
          <a:xfrm>
            <a:off x="3908520" y="3489480"/>
            <a:ext cx="7491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 JU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57"/>
          <p:cNvSpPr/>
          <p:nvPr/>
        </p:nvSpPr>
        <p:spPr>
          <a:xfrm>
            <a:off x="5185800" y="3489480"/>
            <a:ext cx="17668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Docu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58"/>
          <p:cNvSpPr/>
          <p:nvPr/>
        </p:nvSpPr>
        <p:spPr>
          <a:xfrm>
            <a:off x="5185440" y="3787920"/>
            <a:ext cx="19576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Workbo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59"/>
          <p:cNvSpPr/>
          <p:nvPr/>
        </p:nvSpPr>
        <p:spPr>
          <a:xfrm>
            <a:off x="1183320" y="4084560"/>
            <a:ext cx="9547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60"/>
          <p:cNvSpPr/>
          <p:nvPr/>
        </p:nvSpPr>
        <p:spPr>
          <a:xfrm>
            <a:off x="3808440" y="4084560"/>
            <a:ext cx="12733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61"/>
          <p:cNvSpPr/>
          <p:nvPr/>
        </p:nvSpPr>
        <p:spPr>
          <a:xfrm>
            <a:off x="5184360" y="4084560"/>
            <a:ext cx="16678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Tube Vid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62"/>
          <p:cNvSpPr/>
          <p:nvPr/>
        </p:nvSpPr>
        <p:spPr>
          <a:xfrm>
            <a:off x="5186520" y="4381560"/>
            <a:ext cx="17776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lax Foru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63"/>
          <p:cNvSpPr/>
          <p:nvPr/>
        </p:nvSpPr>
        <p:spPr>
          <a:xfrm>
            <a:off x="1143000" y="1676520"/>
            <a:ext cx="6919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64"/>
          <p:cNvSpPr/>
          <p:nvPr/>
        </p:nvSpPr>
        <p:spPr>
          <a:xfrm>
            <a:off x="1143000" y="1676520"/>
            <a:ext cx="6919920" cy="14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65"/>
          <p:cNvSpPr/>
          <p:nvPr/>
        </p:nvSpPr>
        <p:spPr>
          <a:xfrm>
            <a:off x="1143000" y="1973160"/>
            <a:ext cx="6919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66"/>
          <p:cNvSpPr/>
          <p:nvPr/>
        </p:nvSpPr>
        <p:spPr>
          <a:xfrm>
            <a:off x="1143000" y="1973160"/>
            <a:ext cx="691992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67"/>
          <p:cNvSpPr/>
          <p:nvPr/>
        </p:nvSpPr>
        <p:spPr>
          <a:xfrm>
            <a:off x="1143000" y="2271600"/>
            <a:ext cx="6919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1143000" y="2271600"/>
            <a:ext cx="6919920" cy="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69"/>
          <p:cNvSpPr/>
          <p:nvPr/>
        </p:nvSpPr>
        <p:spPr>
          <a:xfrm>
            <a:off x="1143000" y="2568600"/>
            <a:ext cx="6919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70"/>
          <p:cNvSpPr/>
          <p:nvPr/>
        </p:nvSpPr>
        <p:spPr>
          <a:xfrm>
            <a:off x="1143000" y="2568600"/>
            <a:ext cx="6919920" cy="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71"/>
          <p:cNvSpPr/>
          <p:nvPr/>
        </p:nvSpPr>
        <p:spPr>
          <a:xfrm>
            <a:off x="1143000" y="2865600"/>
            <a:ext cx="6919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72"/>
          <p:cNvSpPr/>
          <p:nvPr/>
        </p:nvSpPr>
        <p:spPr>
          <a:xfrm>
            <a:off x="1143000" y="2865600"/>
            <a:ext cx="6919920" cy="14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73"/>
          <p:cNvSpPr/>
          <p:nvPr/>
        </p:nvSpPr>
        <p:spPr>
          <a:xfrm>
            <a:off x="1143000" y="3162240"/>
            <a:ext cx="6919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1143000" y="3162240"/>
            <a:ext cx="691992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75"/>
          <p:cNvSpPr/>
          <p:nvPr/>
        </p:nvSpPr>
        <p:spPr>
          <a:xfrm>
            <a:off x="1143000" y="3460680"/>
            <a:ext cx="6919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76"/>
          <p:cNvSpPr/>
          <p:nvPr/>
        </p:nvSpPr>
        <p:spPr>
          <a:xfrm>
            <a:off x="1143000" y="3460680"/>
            <a:ext cx="6919920" cy="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77"/>
          <p:cNvSpPr/>
          <p:nvPr/>
        </p:nvSpPr>
        <p:spPr>
          <a:xfrm>
            <a:off x="1143000" y="3757680"/>
            <a:ext cx="6919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78"/>
          <p:cNvSpPr/>
          <p:nvPr/>
        </p:nvSpPr>
        <p:spPr>
          <a:xfrm>
            <a:off x="1143000" y="3757680"/>
            <a:ext cx="6919920" cy="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79"/>
          <p:cNvSpPr/>
          <p:nvPr/>
        </p:nvSpPr>
        <p:spPr>
          <a:xfrm>
            <a:off x="1143000" y="4054320"/>
            <a:ext cx="6919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80"/>
          <p:cNvSpPr/>
          <p:nvPr/>
        </p:nvSpPr>
        <p:spPr>
          <a:xfrm>
            <a:off x="1143000" y="4054320"/>
            <a:ext cx="6919920" cy="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81"/>
          <p:cNvSpPr/>
          <p:nvPr/>
        </p:nvSpPr>
        <p:spPr>
          <a:xfrm>
            <a:off x="1143000" y="4351320"/>
            <a:ext cx="6919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82"/>
          <p:cNvSpPr/>
          <p:nvPr/>
        </p:nvSpPr>
        <p:spPr>
          <a:xfrm>
            <a:off x="1143000" y="4351320"/>
            <a:ext cx="691992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83"/>
          <p:cNvSpPr/>
          <p:nvPr/>
        </p:nvSpPr>
        <p:spPr>
          <a:xfrm>
            <a:off x="1143000" y="4649760"/>
            <a:ext cx="6919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84"/>
          <p:cNvSpPr/>
          <p:nvPr/>
        </p:nvSpPr>
        <p:spPr>
          <a:xfrm>
            <a:off x="1143000" y="4649760"/>
            <a:ext cx="6919920" cy="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85"/>
          <p:cNvSpPr/>
          <p:nvPr/>
        </p:nvSpPr>
        <p:spPr>
          <a:xfrm>
            <a:off x="1143000" y="1676520"/>
            <a:ext cx="1440" cy="2987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86"/>
          <p:cNvSpPr/>
          <p:nvPr/>
        </p:nvSpPr>
        <p:spPr>
          <a:xfrm>
            <a:off x="1143000" y="1676520"/>
            <a:ext cx="14400" cy="298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87"/>
          <p:cNvSpPr/>
          <p:nvPr/>
        </p:nvSpPr>
        <p:spPr>
          <a:xfrm>
            <a:off x="3700440" y="1676520"/>
            <a:ext cx="1440" cy="2987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88"/>
          <p:cNvSpPr/>
          <p:nvPr/>
        </p:nvSpPr>
        <p:spPr>
          <a:xfrm>
            <a:off x="3700440" y="1676520"/>
            <a:ext cx="12600" cy="298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89"/>
          <p:cNvSpPr/>
          <p:nvPr/>
        </p:nvSpPr>
        <p:spPr>
          <a:xfrm>
            <a:off x="5145120" y="1676520"/>
            <a:ext cx="1440" cy="2987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90"/>
          <p:cNvSpPr/>
          <p:nvPr/>
        </p:nvSpPr>
        <p:spPr>
          <a:xfrm>
            <a:off x="5145120" y="1676520"/>
            <a:ext cx="14400" cy="298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91"/>
          <p:cNvSpPr/>
          <p:nvPr/>
        </p:nvSpPr>
        <p:spPr>
          <a:xfrm>
            <a:off x="8062920" y="1676520"/>
            <a:ext cx="1440" cy="2987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92"/>
          <p:cNvSpPr/>
          <p:nvPr/>
        </p:nvSpPr>
        <p:spPr>
          <a:xfrm>
            <a:off x="8062920" y="1676520"/>
            <a:ext cx="14400" cy="298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ion Paper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. Seraji: “Traversability Index: A New Concept for Planetary Rovers”, Proceedings IEEE International Conference on Robotics &amp; Automation”, pp. 2006 – 2013, 1999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Howard, H. Seraji, E. Tunsel: “A Rule-Based Traversability Index for Mobile Robot Navigation”, Proceedings IEEE International Conference on Robotics &amp; Automation”, pp. 3067 – 3071, 2001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. Seraji, A. Howard, E. Tunstel: “Safe Naviagation on Hazardous Terrain”, Proceedings IEEE International Conference on Robotics &amp; Automation”, pp. 3084 – 3091, 2001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. Seraji: “Terrain-Based Robot Navigation Using Multi-Scale Traversability Indices”,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 Interational Conference on Fuzzy Systems, pp. 1309 – 1314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autonomous lunar nav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ility Study sugge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 beacons for loc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er system for obstacle avo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wheel drive buggy for 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PL papers propose Fuzzy Control software architectur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ject follows from these pre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vigate using a remote contro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platform 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con waypoint nav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con navigation with mapped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con navigation with mapped hazards and unknown obsta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ad reckoning to safe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31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sign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t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llax RC code and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bility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cy cut-off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acon navigation for rover loc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ltra Wideband radio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stacle Detection / Avo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CK LA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d Reck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el Encoders (tra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ometer (sl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yroscope (tur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310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tional Parts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ax QuadR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ax Propeller Micro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Domain UWB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 L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Power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:\Documents and Settings\Owner\My Documents\QuadRover\QuadRover.jpg"/>
          <p:cNvPicPr/>
          <p:nvPr/>
        </p:nvPicPr>
        <p:blipFill>
          <a:blip r:embed="rId1"/>
          <a:stretch/>
        </p:blipFill>
        <p:spPr>
          <a:xfrm>
            <a:off x="5410080" y="3417840"/>
            <a:ext cx="3268800" cy="252576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5727240" y="6019920"/>
            <a:ext cx="2663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ax QuadR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ystem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2"/>
          <p:cNvGraphicFramePr/>
          <p:nvPr/>
        </p:nvGraphicFramePr>
        <p:xfrm>
          <a:off x="646200" y="1838160"/>
          <a:ext cx="7735680" cy="34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1838160"/>
                    <a:ext cx="7735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31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rallax Quad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Rover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WD cha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d-steer drive t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da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 powered, 4-str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 horse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 gal fuel t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aulic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nd 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for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 control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bbies and entertai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Documents and Settings\Owner\My Documents\QuadRover\QuadRover2.jpg"/>
          <p:cNvPicPr/>
          <p:nvPr/>
        </p:nvPicPr>
        <p:blipFill>
          <a:blip r:embed="rId1"/>
          <a:stretch/>
        </p:blipFill>
        <p:spPr>
          <a:xfrm>
            <a:off x="5181480" y="1828800"/>
            <a:ext cx="3497400" cy="34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31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rallax Quad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952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aulic Driv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aulic 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s 2 independent mo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-cutoff va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-reverse va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al System/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cy cutoff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board 12V 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core Micro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br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 br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cy cut-off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C:\Documents and Settings\Owner\My Documents\QuadRover\Rover Hydraulicsv2.jpg"/>
          <p:cNvPicPr/>
          <p:nvPr/>
        </p:nvPicPr>
        <p:blipFill>
          <a:blip r:embed="rId1"/>
          <a:stretch/>
        </p:blipFill>
        <p:spPr>
          <a:xfrm>
            <a:off x="5257800" y="1230480"/>
            <a:ext cx="3589200" cy="2732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C:\Documents and Settings\Owner\My Documents\QuadRover\RoverLayOut.jpg"/>
          <p:cNvPicPr/>
          <p:nvPr/>
        </p:nvPicPr>
        <p:blipFill>
          <a:blip r:embed="rId2"/>
          <a:stretch/>
        </p:blipFill>
        <p:spPr>
          <a:xfrm>
            <a:off x="5257800" y="4035600"/>
            <a:ext cx="3657600" cy="236520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5419440" y="838080"/>
            <a:ext cx="32547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dRover Hydraulic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5411520" y="6404040"/>
            <a:ext cx="32072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dRover Electrical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CE</dc:creator>
  <dc:description/>
  <dc:language>en-US</dc:language>
  <cp:lastModifiedBy> mamitha mathew</cp:lastModifiedBy>
  <dcterms:modified xsi:type="dcterms:W3CDTF">2008-07-08T23:59:12Z</dcterms:modified>
  <cp:revision>116</cp:revision>
  <dc:subject/>
  <dc:title>Return To The Moon</dc:title>
</cp:coreProperties>
</file>