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538-E7EB-4B5D-9E64-8817558B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FDD-0F87-465E-9E04-D8131175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6AE5F-2422-4C56-8697-FB514646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2D950-7BAD-4AD7-A604-572C9A1F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A8B4C-6384-4936-9A14-86BE48DC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A994B-956B-462B-A642-2E1A6158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6835C-76ED-4B84-811D-7343246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A502E-5353-4AE1-AB6D-A886970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661E-639E-4F07-90D8-4B513A26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3A1DF-D539-4714-8961-7CE4DF59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DB8F8-9AE8-4AA3-99F7-3A82E36A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37040-6BB5-42D9-B7C1-CA70C812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053-D6CA-45B7-870B-CC8653E2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92DA8-358D-4935-8537-D696623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C1807-9E39-48BC-8850-70BC5D88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6AA87-4F28-47CB-9767-780B961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19CA4-87B9-4188-AAA7-53B2E124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170CF-652E-4A23-9DBC-318E6E68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2DFB4-0386-4DFE-BEBA-1FE5DFA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E3BCD-527E-4BF4-A316-7F406ED3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79CB1-EE83-4100-B7C8-DDC1A485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4C66D-2718-4F5C-A9E5-FC7FD5D0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66E99-A7DB-4213-9E43-3197B61F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580-3BE2-458F-8DAC-988898EB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C8D0E-7CA1-4F90-ABCD-F6413735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08503-ACEB-478D-9F9E-217B3FD5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3C57C-EC14-456F-A471-C9B3CEE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8EFFC-6BA4-4607-9304-13A8ED3B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75551-62C2-4454-A35C-1C7CB13E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DB1FC-F573-4641-84AD-59B451F5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C3D0B-EBA5-42B5-B3F4-146332A7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02D8F-E35F-43A8-BD60-6EED6F77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53D6-7CFF-4CBA-A247-CAB6227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CB654-54FD-4A33-BEEC-5696553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D661-E4E0-4F2E-9FE1-33333D98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014EF-91FD-4980-9128-967F4532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BFEF9-DA7D-45DB-98BD-8C3AC285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0A24B-958B-4747-9211-95816580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F0A04-3BE1-4F21-AA9E-17CCFE0D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B68E3-1E74-4C8A-A4EC-3FFDAD16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4351F-2451-4F62-A7F0-B58766B4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842AC-26EA-425F-AA94-D656463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93D29-13B8-49C9-A9AB-6FF92BBC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626C-E8B5-4ED8-8826-590DA792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252A1-27B6-4718-B052-3ADB8B2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3F891-C7F8-4B4D-AD51-552CB35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12200-0089-4438-86A0-75EF196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735A5-B0C2-4FD8-8966-C788F8C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170D9-FD98-44A1-84E2-FE67F371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E8333-7D62-402F-9301-6A25E7DA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70248-217F-4A9D-B5F6-FF95F441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40AE5-C421-4B78-80A4-FEAAA93E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653FC-9C8F-4160-A6FD-96CBF3A3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72829-8545-4E87-AA7C-869CEFE1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4B178-A5A5-45B5-B5DE-FC965590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5E198-618F-4D7C-9FE7-B8EEE1D9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FC2E8-354F-4066-AC78-B8B675EC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7ED8F-87F5-44CB-A40B-93D13C1D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80E2E-7819-4982-8AC8-69A7C44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CAF14-550A-4783-902B-9A591A5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7958C-8BA2-4F64-B111-0A2FCA4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78446-3D3F-42B7-9A1D-352F131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0E8AC-DBBB-4E1B-8200-F77EEEC8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65A7B-F2B7-4D1C-9533-7AB7BCE3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60AE7F-3CF6-4F57-9BAF-F85D142C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3B8A92-188C-4088-B26C-FD6735C8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A965F6-AD72-4C58-BE67-448D946A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1D843-3366-4E20-9F45-75BB4777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DD8E79-9A5C-485D-AA0C-3A7C42DE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F6D98F-C81A-4310-92B7-A7730CA8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93B5F4-9D03-42A6-B178-C8342E7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CDCE47-06B1-4ACA-A995-02CEC6A8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23554B-0CDF-4C3B-80AD-C07D0145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C3A016-4BA7-42BC-B65D-53045E9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AF095B-A185-4013-BA92-726A1252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489DC8-F961-4525-A69B-A2288367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2CFD67-14CE-4852-A387-A566FAD3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7EECF9-5CFE-492B-B845-AFE60AE4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5CB40-77D8-4F4D-961A-36AF7FD2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C62428-0E44-4CC7-B899-E6D5315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916A00-2A17-4C62-8C8B-2CF194CD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E7EC6A-47DB-4665-9A57-3C7D97E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CB79D9-A5AD-4DA8-A23F-96B81D66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46EAD6-BFAF-4A4C-8E79-94BE2C1D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ABBC5A-00C1-480A-B168-39C237B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B9EAB6-3747-47B3-A166-F014AA4C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9CCDE3-3F1D-4776-9929-0967587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207C6B-FAAD-46FB-B213-FC36D1C3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5047A8-CCEC-42BE-8E42-95FA0F5E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8770E-7A8B-46BA-9F14-8A89C803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89B243-8088-4291-A595-CFC02A90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38C604-361D-4A67-B17B-17152AC1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344431-D06A-40C0-8319-B0C9219B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1AE88D-50E9-4B6E-92D2-6E25D29C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82F943-6E98-4029-8789-73576750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28210A-7CF3-4EFD-8EB0-73CBE0A3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C56EAB-E21D-4CFC-ABB8-FFE2C92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21748C-0395-46A4-B011-F87D55B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3DB2A1-CAF4-4E6A-966F-9F3D6BFA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B233ED-988D-49C1-9CA6-3A5483F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B2BE4-C0EC-48E3-9295-334A0334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007DAD-F919-4371-9944-E303ACD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BC76C1-878F-42C2-8CDE-92DC48CF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E41E82-73B4-4A9F-B589-3F905B8C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7D2D76-207F-4A57-8BDE-077130D6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C17314-7B1F-403C-9BB0-3B7C1DDE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8A443E-4F12-4B21-BDAC-59A7B2A8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3D1A1A-F6B3-482D-9A21-EF7F78E4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27DA96-15FF-4734-B864-03D10FA3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EADE91-CDCA-472F-9C61-9E7203A8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85C8AD-C458-4D34-9206-B9C8791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A3D-6E3E-4CFD-B4AB-E97876DE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14473-4E14-42E2-B0BB-2ECB2EBF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C33AE5-4789-4024-BC9B-7A65A82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A0DB3E-EB65-4DA6-8804-D37DDF46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2392D0-EAFB-4385-BBAD-0AA3C987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B3E6B7-9E51-42C9-A9C2-853A8219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45EDCE-E87D-4FC8-A348-8A45EAE0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DF10CB-EC9C-4473-8C79-50089570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E4AC8B-98A7-4C66-B5A4-98209C71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944722-27E1-4973-8508-C620A0BB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ACAF8B-577D-457D-9870-AB1AFE99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1950C8-79EF-42F4-B580-D5297ED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80144-D5EC-4AA6-B941-D2372FF1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F42EF7-6FB3-46E7-973D-D765F52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5D87D3-A380-4824-AF79-ABD9152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1CE652-9212-4A8F-971D-EB2F503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98AED7-CB84-4FEF-B905-BFF947A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268276-A300-4334-BA04-C9FE2850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AC7CE3-BC00-4335-83E6-91DA068E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135F41-CBF3-45AB-9C3B-6B57B42D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6E0FDB-23E7-4BB2-B59C-195F86FF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1C5479-C5DE-4815-B4DA-BC225BA0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B1FA04-7406-4F9C-97D9-50BC53E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2231A-978F-43DA-A81E-3DF31A05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692DA6-84AF-45AE-BD11-4936B857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423C65-656B-47C1-B19E-AD2D4259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D2D537-02CF-4535-8F40-35AAC37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5E5635-DA14-4580-97DA-F6B5C5C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7EB4F4-A85A-41F3-813A-9DF5B394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689F67-1667-403C-B7DF-2813BB4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B3EC05-7E0C-421B-BF7A-832009FF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3C380A-AF56-403F-B0AA-24C9B24E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1EA990-65FD-441C-AE92-76A672AA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505A66-E8C0-4916-A3EA-8E8E848F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5008D-5290-424E-94B5-70144360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CCE2D2-368C-489D-B123-EBDC023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688EE7-071F-4DA0-8455-C66004DF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753C0D-FEBB-4386-AFBE-90267175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AD89BA-3560-44BF-BB1D-A62BDA9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CB5ED6-7697-4B0D-933A-785C666C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4225C8-2776-49C2-8662-46A2D5A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336544-C08F-45EA-8185-622737CB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FB9095-1943-4BE9-88DD-29B646B9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B76217-8DD5-430E-99AA-2BF64B4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826AFB-77CD-49F9-9D88-5BA7A541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81DF9-792A-4E65-8F2C-43025DB4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31218C-A5D6-4581-B3A5-01FFB0C0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73E625-7A29-4D54-8265-8F9E7505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546E74-B954-488E-8FB1-4014D83D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28F278-8201-4CAF-BAAE-30689E5C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CF2E2F-EA29-4784-8E4F-825DDC5B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69666F-B692-46B9-93A5-557210F2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D02BF4-5EFB-48D9-BC23-41C671ED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8998E2-9774-4C06-884D-06DE8B6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431D43-07E9-4825-9E48-B2F9765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4FEC90-155E-48BD-97C5-572E30A4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5042-1291-4F8E-8551-1A106C85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72FB01-7B13-4DEC-87A4-2E9FE6E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277A46-7FAF-46BF-80CF-DB75B22C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07BE52-D3B4-4AD9-BEE8-353F5D34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C545D0-7370-49D4-8E46-8052BBF5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59EF52-987F-4499-8B7F-B5F980E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694E02-10EA-4DA9-94ED-6D38C9F9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5167F8-2703-46C8-A8C7-3B8985D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373A57C-23B0-482B-B384-15829E0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766D25-E6C1-4D95-BCD9-92A001F5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B3EEB20-633C-46AE-8674-A6D5DE6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C8E1-B12A-400D-92A5-17E6A0BE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8501E1-F178-4F2C-9E37-C89716C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1FACDA-255D-47CA-9714-0A032680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CACD9B-4DA0-4620-BD71-E8ABE8BB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0B72E1D-5420-4C6E-A848-1C304AE1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037D402-6F36-4DA4-A0B0-D3A31C46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A8C324-39F6-47C5-A1CC-0CE20959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7752FC-F475-4E58-99B6-811018A1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A6AE3F-0278-4419-93B3-615CC191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23B7D4-D6C3-4EE4-A166-1B6F5E6A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008445-5BE9-4C20-8C75-BE0F15BB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4145-5A89-4500-BD93-3129648C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0EA5C2-B364-40B1-9560-5540D2CF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4B7C3A-6D9A-4FAA-9374-220940A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BB7A84-4051-4C16-A309-9A0EEF9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0FCAE1-C474-4B89-875A-30A7431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38F2F4-786E-410A-8B1A-5B9E485A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2922B8-6E90-4319-A3DB-F4462857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8A4AAAA-CE20-4ED1-991B-16A595F3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BFD02A-64D1-4CF5-A2D1-CDE4D2AB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B04767E-A5D1-4C02-800A-C4229A1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FF6389-64DB-42F6-8877-5841291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9B33-D540-41A4-A51C-5EAEAA0A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A08216-5B0C-434E-9FD2-6DFD084B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28DC14-6582-4135-87EE-426C7DD9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B3A5BE-ADB9-4375-928B-1228A76E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B6F13C-7230-434B-8ED3-FCF1606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0CFC9B-D46A-4B1D-8EFD-7B1539F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E66046-267D-4C53-AE31-C7ABAC85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71994E3-4BEF-4777-B730-8527B0C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2DA19A-AC16-4EA9-A4DC-439CE547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7E1597-D97E-4282-8869-8C8BF757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B6641E8-27A3-466E-9A29-182DF787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831F-E224-474F-90FD-3BB02B53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105151-318A-4C8F-8C7C-BFD0378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62D1489-065C-4D30-9EAB-A5020BDF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5565C4-C4E1-43D0-90AA-03177A06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3404A8-8EB3-42DD-B608-7915BD4A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1E6915-FE56-4918-8644-D9B045C1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B3ACF76-8F9C-4645-96F4-78329FA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C588A9-2C7E-43F5-91BD-8BD1A95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D96C01-2339-46AD-B854-309817D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3004AB-F15F-43B5-8AE5-C90822D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DEBE5F-BE76-4CC1-B811-1CE5154D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5A0-40C3-4211-B940-F10DF51E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146B-C369-471C-82D8-FB11729E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BE376D8-434A-42CA-B00D-BA63DDD5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0550-A112-46B3-BF7C-955BF17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EF39-6330-494E-BC8C-CC2B8BAC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D084-0DE9-4994-BE88-78A671D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D49D-7AAE-4A2F-BD10-2F5ACA15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6F6C6-503C-4D32-8DB8-54F68FA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ABD2-2ADF-44E9-8F2D-8A2D03B1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9DAC-9858-4525-92F1-820E1D12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B3EB-251B-4AAE-9F4D-7701D43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D61F-DFF3-4641-A5F0-20AD0AD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D17-E613-4C4E-8F2D-180B745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1621-6B1E-4DDE-A359-251BB4FA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BE77-DE83-4420-84A8-70FAE03B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189B-8ADF-4D7E-A806-E77CF053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E7CC-795D-440A-AA94-FF74F5E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1316-D7FB-439C-A03C-C09F754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1C62-CFDB-4F05-A342-AA94C1EE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7A463-EF8B-442F-9220-9315B5E7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339D-C4A3-47A7-A994-14F94BE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BE07-85FB-4214-A1EF-261C4C51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772F-7A2C-4B2B-B7E3-4BA5206D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4B6-2715-4BB4-AA6B-E5B61F75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9E48F-509E-48FB-9569-A4EC044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B126-D38E-4DD4-9B52-50A98BB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D367-8D20-4F2F-8D58-2A7B097B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F7A4-9B39-43A9-B102-3A51369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3A4E-439C-4BF0-80E8-F5455FE2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3F4D-936E-443B-A450-79B4FA7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0A37-C288-4A65-A5D8-DF2E50E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0CA1-09E8-45BC-ACCA-3B94FD1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823C-8525-4BE2-9872-F5E87320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00398-87AE-4056-8291-89BD9171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121-180D-480B-ABCB-80FC79D5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44625-D89A-4D2B-9052-323578BE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6E80-18C0-4CDC-A79F-D81570EF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1B69-1DC7-4D1D-AC6F-8C63164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C5E4-C7A5-49E2-A767-0115415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5B6FA-1105-4866-A9E3-AA22D2C4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0031-A8B9-402B-BBF1-48052813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7D12-52C3-42B7-BEF2-8C1B528A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21837-7506-4657-9EDC-3135D8F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6CA5-CBB6-4D82-A6A2-6202EDE4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D77D-CC87-4B95-8B23-3DD2903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177-F776-4787-8F76-2B7CC5BA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3DF8-7937-43E3-80C8-51C1C5DB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4BA81-990F-4677-9A8B-0B302F1A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252DB-7552-4512-B558-DF63FAE8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045BE-3807-49BF-BE29-15C59CE0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ED107-986B-417C-A5C6-AF0A5D2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EDE34-F5CC-4722-B0AD-BE25700A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24BBE-9BB5-4976-BE94-D574D84B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6F6E1-EF6A-4560-ADB2-9D8BF801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4903-2195-4C16-829C-2D5A2C59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814D7-7C0D-4FBA-92A6-D313291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AD1-7769-48FC-9C27-B59852F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10D8C-89D1-49F5-8086-C746119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2A4C8-CDB0-4B47-A965-503E46C8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C3ED-AC14-482B-BEDF-F3238D5E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8B71-1C3C-496F-ACB6-03ECB08E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CD91F-22BA-4B2E-AFC6-92B6D6A1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D330-0A93-42E4-B295-074B2E6A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27E3A-ED8A-4C42-B801-A6E8FC5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A36C5-1932-4C16-8803-72DD11D5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B9AC-021A-4D1B-BE73-7AB2E4D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87AA8-EA9F-4DFD-AB04-1CBBC4E8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07B-04F6-43A8-BE31-F436668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300F5-56E1-4376-B0E3-2C12D52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4A2DE-6B26-4039-867D-84E8395A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3692B-06BE-4157-B757-E7158AE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29D8-DB35-4FE5-BD31-C49605FD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DCACA-B6F4-4779-84BA-EB596BC5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F5E7-401A-4677-BEB3-A9FC1BBA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F72D2-F34C-4EBF-9403-C305448D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CE6E7-2407-40BD-8CFF-C1B540E9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970FB-14BC-4DB8-ACFF-6D2D5ABF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F8580-7A27-41A3-94EA-5B6508A5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sp>
          <p:nvSpPr>
            <p:cNvPr id="1" name="Freeform 2"/>
            <p:cNvSpPr/>
            <p:nvPr/>
          </p:nvSpPr>
          <p:spPr>
            <a:xfrm>
              <a:off x="0" y="487584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6560" cy="855360"/>
            <a:chOff x="0" y="6019920"/>
            <a:chExt cx="7846560" cy="855360"/>
          </a:xfrm>
        </p:grpSpPr>
        <p:sp>
          <p:nvSpPr>
            <p:cNvPr id="5" name="Freeform 6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899880" cy="855360"/>
              <a:chOff x="3946680" y="6019920"/>
              <a:chExt cx="3899880" cy="85536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6266520" y="6030720"/>
                <a:ext cx="1580040" cy="8445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4249440" y="6019920"/>
                <a:ext cx="294840" cy="6260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4809240" y="6179760"/>
                <a:ext cx="599760" cy="429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758200" y="6136920"/>
                <a:ext cx="245880" cy="11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3946680" y="6125760"/>
                <a:ext cx="66240" cy="1281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4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D21B2-8B71-48A3-8147-0E89152E08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76E8C-7092-44B8-A65B-DB9EDBA7EE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2DF14-8089-4D1E-BE81-5A2C476035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3D06A-B631-4996-AA46-6602A9CBE3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60882-98FB-4ABB-AAB4-824BC24999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EB181-EA2B-45A0-AD73-7AD73AE45A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C01E8-4452-42EE-9E0F-130936174E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38CEB-A9C7-468A-8C31-FC31A1C6C1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4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7124C-574A-4659-B170-17C798DF7D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5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DC13C-D187-4519-84E6-5395BC5275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5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D34D1-98A5-416F-8C27-13E2FC93AE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ftr" idx="5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-6480" y="20520"/>
            <a:ext cx="9142560" cy="6856200"/>
            <a:chOff x="-6480" y="20520"/>
            <a:chExt cx="9142560" cy="6856200"/>
          </a:xfrm>
        </p:grpSpPr>
        <p:sp>
          <p:nvSpPr>
            <p:cNvPr id="62" name="Freeform 2"/>
            <p:cNvSpPr/>
            <p:nvPr/>
          </p:nvSpPr>
          <p:spPr>
            <a:xfrm>
              <a:off x="-6480" y="489636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3"/>
            <p:cNvSpPr/>
            <p:nvPr/>
          </p:nvSpPr>
          <p:spPr>
            <a:xfrm>
              <a:off x="-6480" y="2052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4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-1440" y="6033960"/>
            <a:ext cx="7843320" cy="849600"/>
            <a:chOff x="-1440" y="6033960"/>
            <a:chExt cx="7843320" cy="849600"/>
          </a:xfrm>
        </p:grpSpPr>
        <p:sp>
          <p:nvSpPr>
            <p:cNvPr id="66" name="Freeform 6"/>
            <p:cNvSpPr/>
            <p:nvPr/>
          </p:nvSpPr>
          <p:spPr>
            <a:xfrm>
              <a:off x="2360520" y="6033960"/>
              <a:ext cx="5143680" cy="84960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7"/>
            <p:cNvGrpSpPr/>
            <p:nvPr/>
          </p:nvGrpSpPr>
          <p:grpSpPr>
            <a:xfrm>
              <a:off x="3944880" y="6033960"/>
              <a:ext cx="3897000" cy="847800"/>
              <a:chOff x="3944880" y="6033960"/>
              <a:chExt cx="3897000" cy="847800"/>
            </a:xfrm>
          </p:grpSpPr>
          <p:sp>
            <p:nvSpPr>
              <p:cNvPr id="68" name="Freeform 8"/>
              <p:cNvSpPr/>
              <p:nvPr/>
            </p:nvSpPr>
            <p:spPr>
              <a:xfrm>
                <a:off x="6264720" y="6044760"/>
                <a:ext cx="1577160" cy="83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9"/>
              <p:cNvSpPr/>
              <p:nvPr/>
            </p:nvSpPr>
            <p:spPr>
              <a:xfrm>
                <a:off x="4247640" y="6033960"/>
                <a:ext cx="295200" cy="624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808160" y="6193800"/>
                <a:ext cx="599760" cy="4284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5757120" y="6150960"/>
                <a:ext cx="245880" cy="1166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3944880" y="6139800"/>
                <a:ext cx="66240" cy="1278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3"/>
            <p:cNvSpPr/>
            <p:nvPr/>
          </p:nvSpPr>
          <p:spPr>
            <a:xfrm>
              <a:off x="-1440" y="6033960"/>
              <a:ext cx="6311880" cy="84816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75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24D7F-24FC-464B-8D8E-44D292422F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5C54B-5170-469B-B3D5-2104EC73FD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6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7B532-87DF-45E4-BD9C-CD7F35BB5E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ftr" idx="6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807DE-BB1C-45EB-AD14-E50AC171B2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ftr" idx="6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EA694-C542-4BAD-9216-C8674BB287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ftr" idx="6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7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68EBB-FBA5-4C32-AC96-F7479EECAB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E8AF8-4551-49E4-979A-F1F8FC0363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ftr" idx="7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6E0A5-1450-4AB6-9C2C-101E2B318F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A5B2F-0B8D-44D0-9844-D67F22E8DF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356D8-C84A-4B06-8EF7-63D44CC9C6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2F1E1-91D2-4385-9596-C03095FB9C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46149-A7FD-43A6-8E65-D77F19B4E2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5544D-BE84-42A7-87D5-DC8FDE541B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A2AC8-BC76-43EB-AB95-CAB453E333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Return To The Mo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70106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Beacon Navigation Feasibility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1295280" y="434340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Luis B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Joshua Eli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Jason F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Amitha Math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8" name="Picture 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52320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All Terrain, Mobile Rover Practicality Proved on Moon and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Radio Beacon-Based Navigation Is Practical on the M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Obstacle Detection/Avoidance Demonstrated in DARPA Compet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Autonomous, Semi-Autonomous Rover Operation Is Possible with Terrain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2060"/>
                </a:solidFill>
                <a:latin typeface="Arial"/>
              </a:rPr>
              <a:t>Project Management</a:t>
            </a:r>
            <a:br>
              <a:rPr sz="4000"/>
            </a:br>
            <a:r>
              <a:rPr b="0" lang="en-GB" sz="4000" spc="-1" strike="noStrike">
                <a:solidFill>
                  <a:srgbClr val="002060"/>
                </a:solidFill>
                <a:latin typeface="Arial"/>
              </a:rPr>
              <a:t> Due D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6" name="Rectangle 2"/>
          <p:cNvSpPr/>
          <p:nvPr/>
        </p:nvSpPr>
        <p:spPr>
          <a:xfrm>
            <a:off x="0" y="2319480"/>
            <a:ext cx="9144000" cy="144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7" name="Group 3"/>
          <p:cNvGrpSpPr/>
          <p:nvPr/>
        </p:nvGrpSpPr>
        <p:grpSpPr>
          <a:xfrm>
            <a:off x="533520" y="2057400"/>
            <a:ext cx="8227440" cy="4113000"/>
            <a:chOff x="533520" y="2057400"/>
            <a:chExt cx="8227440" cy="4113000"/>
          </a:xfrm>
        </p:grpSpPr>
        <p:sp>
          <p:nvSpPr>
            <p:cNvPr id="1098" name="Rectangle 4"/>
            <p:cNvSpPr/>
            <p:nvPr/>
          </p:nvSpPr>
          <p:spPr>
            <a:xfrm>
              <a:off x="5876280" y="5485320"/>
              <a:ext cx="288324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YouTube Vide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arallax For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Rectangle 5"/>
            <p:cNvSpPr/>
            <p:nvPr/>
          </p:nvSpPr>
          <p:spPr>
            <a:xfrm>
              <a:off x="3283200" y="5485320"/>
              <a:ext cx="2592720" cy="6836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Continu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Rectangle 6"/>
            <p:cNvSpPr/>
            <p:nvPr/>
          </p:nvSpPr>
          <p:spPr>
            <a:xfrm>
              <a:off x="533520" y="5485320"/>
              <a:ext cx="274968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ubli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Rectangle 7"/>
            <p:cNvSpPr/>
            <p:nvPr/>
          </p:nvSpPr>
          <p:spPr>
            <a:xfrm>
              <a:off x="5876280" y="4508280"/>
              <a:ext cx="2883240" cy="97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ower Point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Word 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roject Workbo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Rectangle 8"/>
            <p:cNvSpPr/>
            <p:nvPr/>
          </p:nvSpPr>
          <p:spPr>
            <a:xfrm>
              <a:off x="3283200" y="4508280"/>
              <a:ext cx="2592720" cy="9770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29 JUL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Rectangle 9"/>
            <p:cNvSpPr/>
            <p:nvPr/>
          </p:nvSpPr>
          <p:spPr>
            <a:xfrm>
              <a:off x="533520" y="4508280"/>
              <a:ext cx="2749680" cy="97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Final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Rectangle 10"/>
            <p:cNvSpPr/>
            <p:nvPr/>
          </p:nvSpPr>
          <p:spPr>
            <a:xfrm>
              <a:off x="5876280" y="3824280"/>
              <a:ext cx="288324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Robotic Requirements Dem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Rectangle 11"/>
            <p:cNvSpPr/>
            <p:nvPr/>
          </p:nvSpPr>
          <p:spPr>
            <a:xfrm>
              <a:off x="3283200" y="3824280"/>
              <a:ext cx="2592720" cy="6836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29 JUL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Rectangle 12"/>
            <p:cNvSpPr/>
            <p:nvPr/>
          </p:nvSpPr>
          <p:spPr>
            <a:xfrm>
              <a:off x="533520" y="3824280"/>
              <a:ext cx="274968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rototype Demonst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Rectangle 13"/>
            <p:cNvSpPr/>
            <p:nvPr/>
          </p:nvSpPr>
          <p:spPr>
            <a:xfrm>
              <a:off x="5876280" y="3134160"/>
              <a:ext cx="2883240" cy="68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ower Point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Rectangle 14"/>
            <p:cNvSpPr/>
            <p:nvPr/>
          </p:nvSpPr>
          <p:spPr>
            <a:xfrm>
              <a:off x="3283200" y="3134160"/>
              <a:ext cx="2592720" cy="6883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1 JUL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Rectangle 15"/>
            <p:cNvSpPr/>
            <p:nvPr/>
          </p:nvSpPr>
          <p:spPr>
            <a:xfrm>
              <a:off x="533520" y="3134160"/>
              <a:ext cx="2749680" cy="68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Design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Rectangle 16"/>
            <p:cNvSpPr/>
            <p:nvPr/>
          </p:nvSpPr>
          <p:spPr>
            <a:xfrm>
              <a:off x="5876280" y="2447640"/>
              <a:ext cx="2883240" cy="68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ower Point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Word 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Rectangle 17"/>
            <p:cNvSpPr/>
            <p:nvPr/>
          </p:nvSpPr>
          <p:spPr>
            <a:xfrm>
              <a:off x="3283200" y="2447640"/>
              <a:ext cx="2592720" cy="6865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19 JUN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Rectangle 18"/>
            <p:cNvSpPr/>
            <p:nvPr/>
          </p:nvSpPr>
          <p:spPr>
            <a:xfrm>
              <a:off x="533520" y="2447640"/>
              <a:ext cx="2749680" cy="68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Feasibility Re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Rectangle 19"/>
            <p:cNvSpPr/>
            <p:nvPr/>
          </p:nvSpPr>
          <p:spPr>
            <a:xfrm>
              <a:off x="5876280" y="2057400"/>
              <a:ext cx="2883240" cy="390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Deliverab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Rectangle 20"/>
            <p:cNvSpPr/>
            <p:nvPr/>
          </p:nvSpPr>
          <p:spPr>
            <a:xfrm>
              <a:off x="3283200" y="2057400"/>
              <a:ext cx="2592720" cy="3902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Due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Rectangle 21"/>
            <p:cNvSpPr/>
            <p:nvPr/>
          </p:nvSpPr>
          <p:spPr>
            <a:xfrm>
              <a:off x="533520" y="2057400"/>
              <a:ext cx="2749680" cy="390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463416"/>
                  </a:solidFill>
                  <a:latin typeface="Arial"/>
                </a:rPr>
                <a:t>Tas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Line 22"/>
            <p:cNvSpPr/>
            <p:nvPr/>
          </p:nvSpPr>
          <p:spPr>
            <a:xfrm>
              <a:off x="533520" y="2057400"/>
              <a:ext cx="8226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Line 23"/>
            <p:cNvSpPr/>
            <p:nvPr/>
          </p:nvSpPr>
          <p:spPr>
            <a:xfrm>
              <a:off x="533520" y="6169320"/>
              <a:ext cx="822636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Line 24"/>
            <p:cNvSpPr/>
            <p:nvPr/>
          </p:nvSpPr>
          <p:spPr>
            <a:xfrm>
              <a:off x="533520" y="2057400"/>
              <a:ext cx="108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Line 25"/>
            <p:cNvSpPr/>
            <p:nvPr/>
          </p:nvSpPr>
          <p:spPr>
            <a:xfrm>
              <a:off x="8759880" y="2057400"/>
              <a:ext cx="108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Line 26"/>
            <p:cNvSpPr/>
            <p:nvPr/>
          </p:nvSpPr>
          <p:spPr>
            <a:xfrm>
              <a:off x="533520" y="2447640"/>
              <a:ext cx="822636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27"/>
            <p:cNvSpPr/>
            <p:nvPr/>
          </p:nvSpPr>
          <p:spPr>
            <a:xfrm>
              <a:off x="3283200" y="2057400"/>
              <a:ext cx="108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28"/>
            <p:cNvSpPr/>
            <p:nvPr/>
          </p:nvSpPr>
          <p:spPr>
            <a:xfrm>
              <a:off x="5876280" y="2057400"/>
              <a:ext cx="144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29"/>
            <p:cNvSpPr/>
            <p:nvPr/>
          </p:nvSpPr>
          <p:spPr>
            <a:xfrm>
              <a:off x="533520" y="3134160"/>
              <a:ext cx="8226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30"/>
            <p:cNvSpPr/>
            <p:nvPr/>
          </p:nvSpPr>
          <p:spPr>
            <a:xfrm>
              <a:off x="533520" y="3824280"/>
              <a:ext cx="8226360" cy="1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31"/>
            <p:cNvSpPr/>
            <p:nvPr/>
          </p:nvSpPr>
          <p:spPr>
            <a:xfrm>
              <a:off x="533520" y="4508280"/>
              <a:ext cx="8226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32"/>
            <p:cNvSpPr/>
            <p:nvPr/>
          </p:nvSpPr>
          <p:spPr>
            <a:xfrm>
              <a:off x="533520" y="5485320"/>
              <a:ext cx="8226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8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0" name="TextBox 2"/>
          <p:cNvSpPr/>
          <p:nvPr/>
        </p:nvSpPr>
        <p:spPr>
          <a:xfrm>
            <a:off x="2073960" y="1905120"/>
            <a:ext cx="4241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Project Objectives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Lunar Environment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Navigation Beacons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Rover Design Concept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10 Week Project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Establish Feasibility of a Beacon-Based Navigation System for an Autonomous Lunar Rover</a:t>
            </a:r>
            <a:br>
              <a:rPr sz="2400"/>
            </a:b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Demonstrate Beacon Navigation with an Outdoor, Mobile R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3" name="Picture 10" descr=""/>
          <p:cNvPicPr/>
          <p:nvPr/>
        </p:nvPicPr>
        <p:blipFill>
          <a:blip r:embed="rId1"/>
          <a:stretch/>
        </p:blipFill>
        <p:spPr>
          <a:xfrm>
            <a:off x="380880" y="4022640"/>
            <a:ext cx="3353040" cy="2684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74" name="Picture 9" descr=""/>
          <p:cNvPicPr/>
          <p:nvPr/>
        </p:nvPicPr>
        <p:blipFill>
          <a:blip r:embed="rId2"/>
          <a:stretch/>
        </p:blipFill>
        <p:spPr>
          <a:xfrm>
            <a:off x="6858000" y="4019400"/>
            <a:ext cx="18954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Project Objec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Beacon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ractic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Rover Navigation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Test Rover Mobility Using Remot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Way Point Navigation with Beacon Derived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us Around Mapped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us Around Unknown Obsta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us Dead Reckon Upon Beacon Fail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Lunar Enviro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unar Terrain Is Highly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Avoid or Navigate Around Known High Hazard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Develop High Mobility, Robust R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Negligible Atmosphere (trillionth of Earth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Rover and Beacons Need Protection from Micrometeorite Stri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Sonar Sensors Imprac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unar Magnetism Is Neglig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Compasses can not be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Solar Wind and F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Electronics need to be shielded form high energy p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unar Temperature Varies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Limit rover time of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Navigation Beac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1066680" y="11426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rilateration – determine position based on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distances from known beacons (e.g. G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riangulation – determine position based on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angles to known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Omnidirectional:  requires more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otating Transmitter-Receiver, Stationary Reflectors: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usually Laser with retrorefl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otating Transmitter, Stationary Receivers: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usually Laser with transponder rece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Omnidire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High Visibility: easy to see against 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o Moving Parts: high 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Beacon Cove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Lunar Beacon Cover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How much area can a beacon cover on the mo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Horizon Distance Proportional to Square Root </a:t>
            </a:r>
            <a:br>
              <a:rPr sz="2400"/>
            </a:b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of  Beacon 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Approximate Beacon Coverage: 11*height(m), km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Beacon 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High on a hill would be b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Minimum of 3 beacons for triangulation or trilat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acement of Bea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Area of exploration des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Type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Physical terrain affects number and placement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Radio Beac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295280" y="1371600"/>
            <a:ext cx="7391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ow noise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ot affected by sunlit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o moving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mnidire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roven technique, e.g. LO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rovide rover localization by trila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Picture 5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200400" cy="2400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86" name="Picture 9" descr=""/>
          <p:cNvPicPr/>
          <p:nvPr/>
        </p:nvPicPr>
        <p:blipFill>
          <a:blip r:embed="rId2"/>
          <a:stretch/>
        </p:blipFill>
        <p:spPr>
          <a:xfrm>
            <a:off x="0" y="2590920"/>
            <a:ext cx="928800" cy="13906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9" descr=""/>
          <p:cNvPicPr/>
          <p:nvPr/>
        </p:nvPicPr>
        <p:blipFill>
          <a:blip r:embed="rId3"/>
          <a:stretch/>
        </p:blipFill>
        <p:spPr>
          <a:xfrm>
            <a:off x="0" y="5467320"/>
            <a:ext cx="928800" cy="13906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9" descr=""/>
          <p:cNvPicPr/>
          <p:nvPr/>
        </p:nvPicPr>
        <p:blipFill>
          <a:blip r:embed="rId4"/>
          <a:stretch/>
        </p:blipFill>
        <p:spPr>
          <a:xfrm>
            <a:off x="8215200" y="5467320"/>
            <a:ext cx="928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Rover Design Concep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Robust, Outdoor Four Wheel Drive Ro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Accelerometer for Slope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Wheel Encoders and Gyroscope for 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    Dead Reck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Radio Beacon Loc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Video Camera for Remote 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   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LADAR for Obstacle 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  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4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4"/>
          <p:cNvSpPr/>
          <p:nvPr/>
        </p:nvSpPr>
        <p:spPr>
          <a:xfrm>
            <a:off x="6409080" y="3429000"/>
            <a:ext cx="20613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Parall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QuadR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E</dc:creator>
  <dc:description/>
  <dc:language>en-US</dc:language>
  <cp:lastModifiedBy>ECE</cp:lastModifiedBy>
  <dcterms:modified xsi:type="dcterms:W3CDTF">2008-07-01T13:32:17Z</dcterms:modified>
  <cp:revision>49</cp:revision>
  <dc:subject/>
  <dc:title>Return To The Moon</dc:title>
</cp:coreProperties>
</file>